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EEA0-1428-4AEA-B5E1-6DCA489BA08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1E51-1363-4A73-82EA-A6F7932E165E}" type="slidenum">
              <a:rPr b="0" lang="de-DE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35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89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81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35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89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38120" y="437760"/>
            <a:ext cx="665496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35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89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381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35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89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38120" y="437760"/>
            <a:ext cx="665496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3" marL="1969920" indent="-35532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4" marL="2517840" indent="-3682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5" marL="2517840" indent="-368280">
              <a:spcBef>
                <a:spcPts val="60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6" marL="2517840" indent="-368280">
              <a:spcBef>
                <a:spcPts val="60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12" descr="SMUL_001_O_RGB"/>
          <p:cNvPicPr/>
          <p:nvPr/>
        </p:nvPicPr>
        <p:blipFill>
          <a:blip r:embed="rId2"/>
          <a:stretch/>
        </p:blipFill>
        <p:spPr>
          <a:xfrm>
            <a:off x="5078520" y="404640"/>
            <a:ext cx="3627360" cy="505080"/>
          </a:xfrm>
          <a:prstGeom prst="rect">
            <a:avLst/>
          </a:prstGeom>
          <a:ln w="0">
            <a:noFill/>
          </a:ln>
        </p:spPr>
      </p:pic>
      <p:sp>
        <p:nvSpPr>
          <p:cNvPr id="3" name="Foliennummernplatzhalter 1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68D7-3E61-4518-9CF4-FF175B46C3FE}" type="slidenum">
              <a:rPr b="0" lang="de-DE" sz="1200" spc="-1" strike="noStrike">
                <a:solidFill>
                  <a:srgbClr val="8284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Textplatzhalter 4"/>
          <p:cNvSpPr/>
          <p:nvPr/>
        </p:nvSpPr>
        <p:spPr>
          <a:xfrm>
            <a:off x="539640" y="6453360"/>
            <a:ext cx="6912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28480"/>
                </a:solidFill>
                <a:latin typeface="Arial"/>
              </a:rPr>
              <a:t>| Erhaltung der Bodenfruchtbarkeit | </a:t>
            </a:r>
            <a:r>
              <a:rPr b="0" lang="de-DE" sz="1200" spc="-1" strike="noStrike">
                <a:solidFill>
                  <a:srgbClr val="006333"/>
                </a:solidFill>
                <a:latin typeface="Arial"/>
              </a:rPr>
              <a:t>Auswirkungen des Klimawandels auf die Bodeneros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SMUL_001_O_RGB"/>
          <p:cNvPicPr/>
          <p:nvPr/>
        </p:nvPicPr>
        <p:blipFill>
          <a:blip r:embed="rId2"/>
          <a:stretch/>
        </p:blipFill>
        <p:spPr>
          <a:xfrm>
            <a:off x="5078520" y="404640"/>
            <a:ext cx="3627360" cy="505080"/>
          </a:xfrm>
          <a:prstGeom prst="rect">
            <a:avLst/>
          </a:prstGeom>
          <a:ln w="0">
            <a:noFill/>
          </a:ln>
        </p:spPr>
      </p:pic>
      <p:sp>
        <p:nvSpPr>
          <p:cNvPr id="42" name="Foliennummernplatzhalter 1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34A0-0A25-4A68-9531-FC0AAF10671A}" type="slidenum">
              <a:rPr b="0" lang="de-DE" sz="1200" spc="-1" strike="noStrike">
                <a:solidFill>
                  <a:srgbClr val="8284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Textplatzhalter 4"/>
          <p:cNvSpPr/>
          <p:nvPr/>
        </p:nvSpPr>
        <p:spPr>
          <a:xfrm>
            <a:off x="539640" y="6453360"/>
            <a:ext cx="6264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28480"/>
                </a:solidFill>
                <a:latin typeface="Arial"/>
              </a:rPr>
              <a:t>| XX. Monat 2016 | </a:t>
            </a:r>
            <a:r>
              <a:rPr b="0" lang="de-DE" sz="1200" spc="-1" strike="noStrike">
                <a:solidFill>
                  <a:srgbClr val="006333"/>
                </a:solidFill>
                <a:latin typeface="Arial"/>
              </a:rPr>
              <a:t>Name des Präsentato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3" marL="1969920" indent="-35532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4" marL="2517840" indent="-3682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5" marL="2517840" indent="-368280">
              <a:spcBef>
                <a:spcPts val="60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6" marL="2517840" indent="-368280">
              <a:spcBef>
                <a:spcPts val="60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8" descr="Titelgrafik - LfULG"/>
          <p:cNvPicPr/>
          <p:nvPr/>
        </p:nvPicPr>
        <p:blipFill>
          <a:blip r:embed="rId1"/>
          <a:srcRect l="1555" t="0" r="1777" b="0"/>
          <a:stretch/>
        </p:blipFill>
        <p:spPr>
          <a:xfrm>
            <a:off x="0" y="1844640"/>
            <a:ext cx="9148680" cy="3892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3" descr="WelleOben"/>
          <p:cNvPicPr/>
          <p:nvPr/>
        </p:nvPicPr>
        <p:blipFill>
          <a:blip r:embed="rId2"/>
          <a:srcRect l="0" t="33067" r="0" b="0"/>
          <a:stretch/>
        </p:blipFill>
        <p:spPr>
          <a:xfrm>
            <a:off x="1440" y="0"/>
            <a:ext cx="9144000" cy="2421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WelleUnten"/>
          <p:cNvPicPr/>
          <p:nvPr/>
        </p:nvPicPr>
        <p:blipFill>
          <a:blip r:embed="rId3"/>
          <a:srcRect l="0" t="0" r="0" b="56159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38120" y="1579320"/>
            <a:ext cx="66549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8444"/>
                </a:solidFill>
                <a:latin typeface="Arial"/>
              </a:rPr>
              <a:t>Auswirkungen des Klimawandels auf die Bodeneros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38120" y="980640"/>
            <a:ext cx="66549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rhaltung der Bodenfruchtbarke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7" descr="SMUL_001_O_RGB"/>
          <p:cNvPicPr/>
          <p:nvPr/>
        </p:nvPicPr>
        <p:blipFill>
          <a:blip r:embed="rId4"/>
          <a:stretch/>
        </p:blipFill>
        <p:spPr>
          <a:xfrm>
            <a:off x="5078520" y="404640"/>
            <a:ext cx="362736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Inhal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Mögliche Auswirkunge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Regelungen zur Vermeidung von Bodenerosion durch Wasser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ögliche Auswirkung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Veränderungen werden nicht gleichmäßig in Deutschland zu beobachten sein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Bodenerosion ist maßgeblich von der Entwicklung / Verteilung der Niederschlagsintensität und vom Temperaturverlauf abhängig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Erosionsgefahr erhöht sich in Abhängigkeit vom Standort moderat bis mitt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Maisanbauflächen werden eine deutliche Erhöhung der Erosion in Abhängigkeit von der Bodenbearbeitung zeigen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Textfeld 3"/>
          <p:cNvSpPr/>
          <p:nvPr/>
        </p:nvSpPr>
        <p:spPr>
          <a:xfrm>
            <a:off x="7308720" y="5918040"/>
            <a:ext cx="1656000" cy="85536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UMWELT BUNDESAMT (2016): Wie wirkt sich der Klimawandel auf die Bodenerosion durch Wasser aus?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16588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Veränderung der standörtlichen Erosionsgefährdung in Folge des Klimawandel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Inhaltsplatzhalter 3" descr=""/>
          <p:cNvPicPr/>
          <p:nvPr/>
        </p:nvPicPr>
        <p:blipFill>
          <a:blip r:embed="rId1"/>
          <a:stretch/>
        </p:blipFill>
        <p:spPr>
          <a:xfrm>
            <a:off x="684360" y="2205000"/>
            <a:ext cx="7381800" cy="3848040"/>
          </a:xfrm>
          <a:prstGeom prst="rect">
            <a:avLst/>
          </a:prstGeom>
          <a:ln w="0">
            <a:noFill/>
          </a:ln>
        </p:spPr>
      </p:pic>
      <p:sp>
        <p:nvSpPr>
          <p:cNvPr id="102" name="Textfeld 4"/>
          <p:cNvSpPr/>
          <p:nvPr/>
        </p:nvSpPr>
        <p:spPr>
          <a:xfrm>
            <a:off x="7020000" y="5807160"/>
            <a:ext cx="2016000" cy="85536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UMWELT BUNDESAMT (2016): http://www.umweltbundesamt.de/themen/boden-landwirtschaft/bodenbelastungen/erosion#textpart-6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3640" y="691920"/>
            <a:ext cx="84531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Veränderung der bewirtschaftungsabhängigen Erosionsgefährdung in Folge des Klimawand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Inhaltsplatzhalter 3" descr=""/>
          <p:cNvPicPr/>
          <p:nvPr/>
        </p:nvPicPr>
        <p:blipFill>
          <a:blip r:embed="rId1"/>
          <a:stretch/>
        </p:blipFill>
        <p:spPr>
          <a:xfrm>
            <a:off x="539640" y="2060640"/>
            <a:ext cx="7382160" cy="3848040"/>
          </a:xfrm>
          <a:prstGeom prst="rect">
            <a:avLst/>
          </a:prstGeom>
          <a:ln w="0">
            <a:noFill/>
          </a:ln>
        </p:spPr>
      </p:pic>
      <p:sp>
        <p:nvSpPr>
          <p:cNvPr id="105" name="Textfeld 4"/>
          <p:cNvSpPr/>
          <p:nvPr/>
        </p:nvSpPr>
        <p:spPr>
          <a:xfrm>
            <a:off x="6804000" y="5805360"/>
            <a:ext cx="2160720" cy="70308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UMWELT BUNDESAMT (2016): http://www.umweltbundesamt.de/themen/boden-landwirtschaft/bodenbelastungen/erosion#textpart-6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Regelungen zur Vermeidung von Bodenerosion durch Wass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Bundes-Bodenschutzgesetz – BBodSchG (§17)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Bundes-Bodenschutz und Altlastenverordnung – BBodSchV (§8)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Direktzahlungen-Verpflichtungengesetz – DirektZahlVerpflG (§2)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Direktzahlungen-Verpflichtungenverordnung – DirektZahlVerpflV (§2)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Verordnung – (Cross Compliance) Nr. 1782 / 2003 (Artikel 5)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Regelungen zur Vermeidung von Bodenerosion durch Wass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Wasserhaushaltsgesetz – WHG (§ 78, § 83)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Wasserrahmenrichtlinie Nr. 2000/60/EG (Artikel 13)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Bundes-Naturschutzgesetz – BNatSchG (§5)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07:10:19Z</dcterms:created>
  <dc:creator>Müller, Tino - LfULG</dc:creator>
  <dc:description/>
  <dc:language>en-US</dc:language>
  <cp:lastModifiedBy>Müller, Tino - LfULG</cp:lastModifiedBy>
  <dcterms:modified xsi:type="dcterms:W3CDTF">2018-05-28T09:00:13Z</dcterms:modified>
  <cp:revision>70</cp:revision>
  <dc:subject/>
  <dc:title>Ohne Zweitlogo: Titel der Präsentation Arial 26</dc:title>
</cp:coreProperties>
</file>