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ED8-8D70-41F8-8196-AB373A5FDD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82A-5CBC-42AC-B507-DD2AA6D41BA7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402-1E18-493E-B94E-45BC5B40799C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20560" y="650412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Erhaltung der Bodenfruchtbarkeit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Folgen der Bodeneros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3782-9208-4640-A2DE-D4CBB172B8D8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Folgen der Boden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66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olgen der Bodenerosion im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77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Abtragungsbereich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kürzung der Bodenpro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armung an Humus &amp; Feinbodenteilch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einträchtigung der Bodenfunk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letzung, Entwurzelung &amp; Vernichtung von Kulturpflanz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lagerung / Verfrachtung von Saatgut, Düngemitteln und PS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79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Arial"/>
              </a:rPr>
              <a:t>Auftragsbereich</a:t>
            </a:r>
            <a:r>
              <a:rPr b="0" lang="de-DE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onzentration von Düngemitteln / PSM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↑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Überdeckung von Pflanz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Verschmutzung von Verkehrswegen, Siedlungsflächen &amp; Gräb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Eintrag von Sedimenten, Nähr- &amp; Schadstoffen in Gewässe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Textfeld 1"/>
          <p:cNvSpPr/>
          <p:nvPr/>
        </p:nvSpPr>
        <p:spPr>
          <a:xfrm>
            <a:off x="7451640" y="6168960"/>
            <a:ext cx="1297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fferenzierung der Schäden durch 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77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333333"/>
                </a:solidFill>
                <a:latin typeface="Arial"/>
              </a:rPr>
              <a:t>on-site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 Schäde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Bodenabtrag schädigt nachhaltig die natürlichen Bodenfunktionen &amp; die Produktionsfunk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Schäden auf der Erosionsfläch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333333"/>
                </a:solidFill>
                <a:latin typeface="Arial"/>
              </a:rPr>
              <a:t>off-site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Schäd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erhebliche Ablagerungen von abgeschwemmtem Bodenmaterial → Quantifizierung der </a:t>
            </a:r>
            <a:r>
              <a:rPr b="0" i="1" lang="de-DE" sz="2400" spc="-1" strike="noStrike">
                <a:solidFill>
                  <a:srgbClr val="333333"/>
                </a:solidFill>
                <a:latin typeface="Arial"/>
              </a:rPr>
              <a:t>on-site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Schäden möglich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Schäden außerhalb der Erosionsfläch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feld 3"/>
          <p:cNvSpPr/>
          <p:nvPr/>
        </p:nvSpPr>
        <p:spPr>
          <a:xfrm>
            <a:off x="7308720" y="5950080"/>
            <a:ext cx="144000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n-sit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Schäd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</a:rPr>
              <a:t>Nachhaltig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: 1 – 1,5 t/ha a ( 1 cm Bodenverlust in 100 Jahr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000"/>
                </a:solidFill>
                <a:latin typeface="Arial"/>
              </a:rPr>
              <a:t>Vorsorge: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2 -3 t/ha a ( 2 cm Bodenverlust in 100 Jahr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Gefahrenabwehr: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13 t/ha a ( 10 cm Bodenverlust in 100 Jahr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feld 3"/>
          <p:cNvSpPr/>
          <p:nvPr/>
        </p:nvSpPr>
        <p:spPr>
          <a:xfrm>
            <a:off x="7308720" y="5950080"/>
            <a:ext cx="144000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verlust nach 80 Jahren bei bestimmt jährlichen Abtragsme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nhaltsplatzhalter 3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445080" cy="384804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4"/>
          <p:cNvSpPr/>
          <p:nvPr/>
        </p:nvSpPr>
        <p:spPr>
          <a:xfrm>
            <a:off x="5867280" y="6154560"/>
            <a:ext cx="309744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Bild-Quelle: UMWELT BUNDESAM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http://www.umweltbundesamt.de/themen/boden-landwirtschaft/bodenbelastungen/erosion#textpart-4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abtrag je nach Bodenbearbeitung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nhaltsplatzhalter 3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6960960" cy="384804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4"/>
          <p:cNvSpPr/>
          <p:nvPr/>
        </p:nvSpPr>
        <p:spPr>
          <a:xfrm>
            <a:off x="5519880" y="6145200"/>
            <a:ext cx="3313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 http://www.umweltbundesamt.de/themen/boden-landwirtschaft/bodenbelastungen/erosion#textpart-6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egative Auswirkungen auf die Ackerfläch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ringerung der Bodenfruchtbarkei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einträchtigung der Bodenfunktionen: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iltern von Verunreinigun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asserspeich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nteausfälle in Folge von Verlusten bei Kulturpflanz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lust von fruchtbarem Ober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feld 3"/>
          <p:cNvSpPr/>
          <p:nvPr/>
        </p:nvSpPr>
        <p:spPr>
          <a:xfrm>
            <a:off x="6372360" y="6165720"/>
            <a:ext cx="237636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as sind die Folgen von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ff-sit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Schäd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eposition von Bodenmaterial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f Verkehrsflächen → Verkehrssicherheit ist gefährde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iedlungsflächen sind nicht mehr ihrem Sinn entsprechend nutzba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berflächengewässer: Verschlechterung der Wasserqualität, Verlandung von stehenden Gewässer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einträchtigung von Schutzgebieten des Naturschutz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feld 3"/>
          <p:cNvSpPr/>
          <p:nvPr/>
        </p:nvSpPr>
        <p:spPr>
          <a:xfrm>
            <a:off x="7308720" y="5950080"/>
            <a:ext cx="144000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13): Gefahrenabwehr bei Bodenerosion. Arbeitshilf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73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egative Auswirkungen auf benachbarte Flä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unreinigung von Wegen und Straß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unreinigung von Gräben und Kanalis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unreinigung in Wohngebieten und von Privateigentu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teigerung der lokalen Überschwemmungsgefahr durch oberflächlichen Wasserabflu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nteausfälle durch Überschwemmung benachbarter Fläch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frachten von an den Boden gebundenen Schadstoffen und Mineraldünger in Bäche, Flüsse und Seen sowie benachbarte Ökosysteme (</a:t>
            </a:r>
            <a:r>
              <a:rPr b="0" i="1" lang="de-DE" sz="2000" spc="-1" strike="noStrike">
                <a:solidFill>
                  <a:srgbClr val="333333"/>
                </a:solidFill>
                <a:latin typeface="Arial"/>
              </a:rPr>
              <a:t>Eutrophierung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230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nventionelle Bodenbearbeitung mit dem Pfl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keine Beeinträchtigung der Wasserleitfähigkeit zu beobach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16-jähriger Langzeitversuch des LfUL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tendenziell kann es in der Pflugsohle aber zu Bodenverdichtung komm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as Porenvolumen wird durch den Pflugeinsatz nicht wesentlich beeinfluss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feld 3"/>
          <p:cNvSpPr/>
          <p:nvPr/>
        </p:nvSpPr>
        <p:spPr>
          <a:xfrm>
            <a:off x="4932360" y="5875200"/>
            <a:ext cx="403236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ZIMMERMAN; SCHMIDT &amp; BÖRNER (2010): Untersuchungen zu acker- und pflanzenbaulichen Auswirkungen einer dauerhaft konservierenden Bodenbearbeitung. Schriftenreihe, Heft 15/2010. Mehrländerprojekt Agrarbezogener Bodenschutz. Sächsisches Landesamt für Umwelt, Landwirtschaft und Geologie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sgangslag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llgemeine Folgen durch Wasser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Negative Auswirkungen auf die Ackerfläch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Negative Auswirkungen auf benachbarte Fläch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Übersicht: Erosionsgefährdete Gebiete in Deutschlan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abtrag je nach Bodenbearbeitung    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Aktuelle Klimaprognosen und bereits gesammelte Erfahrungen mit Starkniederschlägen in Sachsen zeigen eine Zunahme und Intensität von Bodenerosionen und somit auch die Aktualität dieser Problemati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gangsl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urch Bewirtschaftungsmaßnahmen lassen sich gezielt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Bodenstruktur (insbesondere die Infiltratio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as Wasserhaltevermö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Durchwurzelbarke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Nährstoffmineralis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Humusgehal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biologische Aktivitä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gespeicherte Nährstoffvorr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einfluss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llgemeine Folgen durch Wasserero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bedeutet den Verlust von fruchtbarem Bod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langfristig bedeutet dies die Bedrohung der Produktions-grundlage für die Landwirtschaf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s besteht Gefahr für öffentliche und schützenswerte Güter, </a:t>
            </a:r>
            <a:br>
              <a:rPr sz="2200"/>
            </a:b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z. B. für die Wasserqualität oder Sachschäden an Siedlungs- und Verkehrsfläch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austregel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verlust von 10 t/ha/a entspricht dem Verlust von 1 mm Boden/a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feld 3"/>
          <p:cNvSpPr/>
          <p:nvPr/>
        </p:nvSpPr>
        <p:spPr>
          <a:xfrm>
            <a:off x="6588000" y="6134040"/>
            <a:ext cx="223200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as sind die Folgen von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gangslage in Sachs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m mittleren und südlichen Teil Sachsens sind rund 60% der Ackerfläche potenziell durch Wassererosion gefährdet und teilweise im Einzeljahr betroff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luffreiche, vorwiegend ackerbaulich genutzte Löss- &amp; Verwitterungsbö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sonders Bergkuppen und Oberhänge sind je nach Bodenbe-arbeitung besonders erosionsgefährdet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im Extremfall hat der Bodenverlust die Aufgabe der ackerbaulichen Nutzung zur Folg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Ertragsunterschiede zwischen Kuppe, Oberhang und Senke sind bereits heute in Trockenjahren deutlich zu beobach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feld 3"/>
          <p:cNvSpPr/>
          <p:nvPr/>
        </p:nvSpPr>
        <p:spPr>
          <a:xfrm>
            <a:off x="4859280" y="5892840"/>
            <a:ext cx="395928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ZIMMERMAN; SCHMIDT &amp; BÖRNER (2010): Untersuchungen zu acker- und pflanzenbaulichen Auswirkungen einer dauerhaft konservierenden Bodenbearbeitung. Schriftenreihe, Heft 15/2010. Mehrländerprojekt Agrarbezogener Bodenschutz. Sächsisches Landesamt für Umwelt, Landwirtschaft und Geologie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84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blick: Erosionsgefährdete Gebiete in Deutsch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nhaltsplatzhalter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180200" cy="3814560"/>
          </a:xfrm>
          <a:prstGeom prst="rect">
            <a:avLst/>
          </a:prstGeom>
          <a:ln w="0">
            <a:noFill/>
          </a:ln>
        </p:spPr>
      </p:pic>
      <p:sp>
        <p:nvSpPr>
          <p:cNvPr id="108" name="Textfeld 4"/>
          <p:cNvSpPr/>
          <p:nvPr/>
        </p:nvSpPr>
        <p:spPr>
          <a:xfrm>
            <a:off x="5651640" y="6165720"/>
            <a:ext cx="3313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http://www.umweltbundesamt.de/themen/boden-landwirtschaft/bodenbelastungen/erosion#textpart-6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84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blick: Erosionsgefährdete Gebiete in Deutsch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feld 4"/>
          <p:cNvSpPr/>
          <p:nvPr/>
        </p:nvSpPr>
        <p:spPr>
          <a:xfrm>
            <a:off x="5651640" y="6165720"/>
            <a:ext cx="331308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http://www.umweltbundesamt.de/themen/boden-landwirtschaft/bodenbelastungen/erosion#textpart-6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Inhaltsplatzhalter 5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18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7662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Linienhafte Erosionsform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utlich sichtbare, mess- und kartierbare Formen auf einer Acker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terteilung nach verschiedenen Tiefe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Rillen (2 – 10 cm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Rinnen (10 – 40 cm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Gräben (&gt; 40 cm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obachtung meist an Tiefen- und Abflusslinien oder an den Fahrgass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reich des Abtrages und der Neuanlagerung liegen deutlich auseinand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feld 3"/>
          <p:cNvSpPr/>
          <p:nvPr/>
        </p:nvSpPr>
        <p:spPr>
          <a:xfrm>
            <a:off x="6469200" y="6165720"/>
            <a:ext cx="244944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ie erkennen wir Bodenerosion durch Wasser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17T17:03:45Z</dcterms:modified>
  <cp:revision>93</cp:revision>
  <dc:subject/>
  <dc:title>Ohne Zweitlogo: Titel der Präsentation Arial 26</dc:title>
</cp:coreProperties>
</file>