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1E6DC-038E-4BAB-86A9-07A89F351CD9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6C9CA-455C-4360-8126-49DA70F7CE56}" type="slidenum">
              <a:rPr b="0" lang="de-DE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38120" y="437760"/>
            <a:ext cx="665496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38120" y="2381040"/>
            <a:ext cx="826776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38120" y="4390920"/>
            <a:ext cx="826776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38120" y="437760"/>
            <a:ext cx="665496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38120" y="2381040"/>
            <a:ext cx="403452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600" y="2381040"/>
            <a:ext cx="403452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38120" y="4390920"/>
            <a:ext cx="403452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600" y="4390920"/>
            <a:ext cx="403452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38120" y="437760"/>
            <a:ext cx="665496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38120" y="2381040"/>
            <a:ext cx="266184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3520" y="2381040"/>
            <a:ext cx="266184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8920" y="2381040"/>
            <a:ext cx="266184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38120" y="4390920"/>
            <a:ext cx="266184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3520" y="4390920"/>
            <a:ext cx="266184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8920" y="4390920"/>
            <a:ext cx="266184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38120" y="437760"/>
            <a:ext cx="665496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38120" y="2381040"/>
            <a:ext cx="826776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38120" y="437760"/>
            <a:ext cx="665496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38120" y="2381040"/>
            <a:ext cx="826776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38120" y="437760"/>
            <a:ext cx="665496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38120" y="2381040"/>
            <a:ext cx="403452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600" y="2381040"/>
            <a:ext cx="403452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38120" y="437760"/>
            <a:ext cx="665496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38120" y="437760"/>
            <a:ext cx="6654960" cy="551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38120" y="437760"/>
            <a:ext cx="665496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38120" y="2381040"/>
            <a:ext cx="403452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600" y="2381040"/>
            <a:ext cx="403452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38120" y="4390920"/>
            <a:ext cx="403452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38120" y="437760"/>
            <a:ext cx="665496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38120" y="2381040"/>
            <a:ext cx="826776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38120" y="437760"/>
            <a:ext cx="665496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38120" y="2381040"/>
            <a:ext cx="403452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600" y="2381040"/>
            <a:ext cx="403452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600" y="4390920"/>
            <a:ext cx="403452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38120" y="437760"/>
            <a:ext cx="665496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38120" y="2381040"/>
            <a:ext cx="403452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600" y="2381040"/>
            <a:ext cx="403452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38120" y="4390920"/>
            <a:ext cx="826776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38120" y="437760"/>
            <a:ext cx="665496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38120" y="2381040"/>
            <a:ext cx="826776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38120" y="4390920"/>
            <a:ext cx="826776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38120" y="437760"/>
            <a:ext cx="665496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38120" y="2381040"/>
            <a:ext cx="403452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600" y="2381040"/>
            <a:ext cx="403452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38120" y="4390920"/>
            <a:ext cx="403452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600" y="4390920"/>
            <a:ext cx="403452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38120" y="437760"/>
            <a:ext cx="665496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38120" y="2381040"/>
            <a:ext cx="266184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3520" y="2381040"/>
            <a:ext cx="266184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8920" y="2381040"/>
            <a:ext cx="266184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38120" y="4390920"/>
            <a:ext cx="266184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3520" y="4390920"/>
            <a:ext cx="266184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8920" y="4390920"/>
            <a:ext cx="266184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38120" y="437760"/>
            <a:ext cx="665496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38120" y="2381040"/>
            <a:ext cx="826776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38120" y="437760"/>
            <a:ext cx="665496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38120" y="2381040"/>
            <a:ext cx="403452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600" y="2381040"/>
            <a:ext cx="403452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38120" y="437760"/>
            <a:ext cx="665496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38120" y="437760"/>
            <a:ext cx="6654960" cy="551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38120" y="437760"/>
            <a:ext cx="665496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38120" y="2381040"/>
            <a:ext cx="403452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600" y="2381040"/>
            <a:ext cx="403452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8120" y="4390920"/>
            <a:ext cx="403452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38120" y="437760"/>
            <a:ext cx="665496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38120" y="2381040"/>
            <a:ext cx="403452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600" y="2381040"/>
            <a:ext cx="403452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600" y="4390920"/>
            <a:ext cx="403452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38120" y="437760"/>
            <a:ext cx="665496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38120" y="2381040"/>
            <a:ext cx="403452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600" y="2381040"/>
            <a:ext cx="403452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38120" y="4390920"/>
            <a:ext cx="826776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38120" y="437760"/>
            <a:ext cx="665496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38120" y="2381040"/>
            <a:ext cx="826776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-35568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901800" indent="-36684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2" marL="1434960" indent="-35388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3" marL="1969920" indent="-35532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4" marL="2517840" indent="-36828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5" marL="2517840" indent="-368280">
              <a:spcBef>
                <a:spcPts val="601"/>
              </a:spcBef>
              <a:buClr>
                <a:srgbClr val="333333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6" marL="2517840" indent="-368280">
              <a:spcBef>
                <a:spcPts val="601"/>
              </a:spcBef>
              <a:buClr>
                <a:srgbClr val="333333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" name="Picture 12" descr="SMUL_001_O_RGB"/>
          <p:cNvPicPr/>
          <p:nvPr/>
        </p:nvPicPr>
        <p:blipFill>
          <a:blip r:embed="rId2"/>
          <a:stretch/>
        </p:blipFill>
        <p:spPr>
          <a:xfrm>
            <a:off x="5078520" y="404640"/>
            <a:ext cx="3627360" cy="505080"/>
          </a:xfrm>
          <a:prstGeom prst="rect">
            <a:avLst/>
          </a:prstGeom>
          <a:ln w="0">
            <a:noFill/>
          </a:ln>
        </p:spPr>
      </p:pic>
      <p:sp>
        <p:nvSpPr>
          <p:cNvPr id="3" name="Foliennummernplatzhalter 1"/>
          <p:cNvSpPr/>
          <p:nvPr/>
        </p:nvSpPr>
        <p:spPr>
          <a:xfrm>
            <a:off x="0" y="6453360"/>
            <a:ext cx="68436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58FC5-F1BA-4C63-99F8-558B382E47C9}" type="slidenum">
              <a:rPr b="0" lang="en-US" sz="1200" spc="-1" strike="noStrike">
                <a:solidFill>
                  <a:srgbClr val="8284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Textplatzhalter 4"/>
          <p:cNvSpPr/>
          <p:nvPr/>
        </p:nvSpPr>
        <p:spPr>
          <a:xfrm>
            <a:off x="539640" y="6453360"/>
            <a:ext cx="626436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28480"/>
                </a:solidFill>
                <a:latin typeface="Arial"/>
              </a:rPr>
              <a:t>| Erhaltung der Bodenfruchtbarkeit |</a:t>
            </a:r>
            <a:r>
              <a:rPr b="0" lang="en-US" sz="1200" spc="-1" strike="noStrike">
                <a:solidFill>
                  <a:srgbClr val="006333"/>
                </a:solidFill>
                <a:latin typeface="Arial"/>
              </a:rPr>
              <a:t> Erosionsschutz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8" descr="SMUL_001_O_RGB"/>
          <p:cNvPicPr/>
          <p:nvPr/>
        </p:nvPicPr>
        <p:blipFill>
          <a:blip r:embed="rId2"/>
          <a:stretch/>
        </p:blipFill>
        <p:spPr>
          <a:xfrm>
            <a:off x="5078520" y="404640"/>
            <a:ext cx="3627360" cy="505080"/>
          </a:xfrm>
          <a:prstGeom prst="rect">
            <a:avLst/>
          </a:prstGeom>
          <a:ln w="0">
            <a:noFill/>
          </a:ln>
        </p:spPr>
      </p:pic>
      <p:sp>
        <p:nvSpPr>
          <p:cNvPr id="42" name="Foliennummernplatzhalter 1"/>
          <p:cNvSpPr/>
          <p:nvPr/>
        </p:nvSpPr>
        <p:spPr>
          <a:xfrm>
            <a:off x="0" y="6453360"/>
            <a:ext cx="68436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2FA74-EAC0-40D4-8C53-A4485B317DEE}" type="slidenum">
              <a:rPr b="0" lang="en-US" sz="1200" spc="-1" strike="noStrike">
                <a:solidFill>
                  <a:srgbClr val="8284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Textplatzhalter 4"/>
          <p:cNvSpPr/>
          <p:nvPr/>
        </p:nvSpPr>
        <p:spPr>
          <a:xfrm>
            <a:off x="539640" y="6453360"/>
            <a:ext cx="626436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28480"/>
                </a:solidFill>
                <a:latin typeface="Arial"/>
              </a:rPr>
              <a:t>| XX. Monat 2016 | </a:t>
            </a:r>
            <a:r>
              <a:rPr b="0" lang="de-DE" sz="1200" spc="-1" strike="noStrike">
                <a:solidFill>
                  <a:srgbClr val="006333"/>
                </a:solidFill>
                <a:latin typeface="Arial"/>
              </a:rPr>
              <a:t>Name des Präsentators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38120" y="437760"/>
            <a:ext cx="665496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38120" y="2381040"/>
            <a:ext cx="826776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-35568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901800" indent="-36684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2" marL="1434960" indent="-35388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3" marL="1969920" indent="-35532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4" marL="2517840" indent="-36828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5" marL="2517840" indent="-368280">
              <a:spcBef>
                <a:spcPts val="601"/>
              </a:spcBef>
              <a:buClr>
                <a:srgbClr val="333333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6" marL="2517840" indent="-368280">
              <a:spcBef>
                <a:spcPts val="601"/>
              </a:spcBef>
              <a:buClr>
                <a:srgbClr val="333333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8" descr="Titelgrafik - LfULG"/>
          <p:cNvPicPr/>
          <p:nvPr/>
        </p:nvPicPr>
        <p:blipFill>
          <a:blip r:embed="rId1"/>
          <a:srcRect l="1555" t="0" r="1777" b="0"/>
          <a:stretch/>
        </p:blipFill>
        <p:spPr>
          <a:xfrm>
            <a:off x="0" y="1844640"/>
            <a:ext cx="9148680" cy="38926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3" descr="WelleOben"/>
          <p:cNvPicPr/>
          <p:nvPr/>
        </p:nvPicPr>
        <p:blipFill>
          <a:blip r:embed="rId2"/>
          <a:srcRect l="0" t="33067" r="0" b="0"/>
          <a:stretch/>
        </p:blipFill>
        <p:spPr>
          <a:xfrm>
            <a:off x="1440" y="0"/>
            <a:ext cx="9144000" cy="24210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" descr="WelleUnten"/>
          <p:cNvPicPr/>
          <p:nvPr/>
        </p:nvPicPr>
        <p:blipFill>
          <a:blip r:embed="rId3"/>
          <a:srcRect l="0" t="0" r="0" b="56159"/>
          <a:stretch/>
        </p:blipFill>
        <p:spPr>
          <a:xfrm>
            <a:off x="0" y="5229360"/>
            <a:ext cx="9144000" cy="162864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38120" y="1579320"/>
            <a:ext cx="6654960" cy="3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8444"/>
                </a:solidFill>
                <a:latin typeface="Arial"/>
              </a:rPr>
              <a:t>Erosionsschutz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438120" y="980640"/>
            <a:ext cx="845496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Erhaltung der Bodenfruchtbarkei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27" descr="SMUL_001_O_RGB"/>
          <p:cNvPicPr/>
          <p:nvPr/>
        </p:nvPicPr>
        <p:blipFill>
          <a:blip r:embed="rId4"/>
          <a:stretch/>
        </p:blipFill>
        <p:spPr>
          <a:xfrm>
            <a:off x="5078520" y="404640"/>
            <a:ext cx="3627360" cy="5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37760" y="691920"/>
            <a:ext cx="831060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Bodenerosion durch Wind / Wasser - Maßnahmen zur Vermeidung von Bodenerosio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65120" y="2166480"/>
            <a:ext cx="826776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-35568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0000"/>
                </a:solidFill>
                <a:latin typeface="Arial"/>
              </a:rPr>
              <a:t>der Schutz vor Bodenerosion wird meist durch eine Kombination mehrerer Maßnahmen erreicht 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355680" indent="-35568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355680" indent="-35568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 u="sng">
                <a:solidFill>
                  <a:srgbClr val="333333"/>
                </a:solidFill>
                <a:uFillTx/>
                <a:latin typeface="Arial"/>
              </a:rPr>
              <a:t>Zeitspanne ohne Bodenbedeckung minimieren 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901800" indent="-36684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33"/>
                </a:solidFill>
                <a:latin typeface="Arial"/>
              </a:rPr>
              <a:t>Fruchtfolgegestaltung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901800" indent="-36684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33"/>
                </a:solidFill>
                <a:latin typeface="Arial"/>
              </a:rPr>
              <a:t>Anbau von Zwischenfrüchten → dichte Pflanzendecke bietet den besten Erosionsschutz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901800" indent="-36684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33"/>
                </a:solidFill>
                <a:latin typeface="Arial"/>
              </a:rPr>
              <a:t>Untersaaten / Strohmulch bzw. Zufuhr organischer Substanz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55680" indent="-35568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333333"/>
                </a:solidFill>
                <a:latin typeface="Arial"/>
              </a:rPr>
              <a:t>eine höhere Bodenbedeckung schützt die Bodenaggregate (Aufprall von Regentropfen auf den Boden wird gemindert)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" name="Textfeld 1"/>
          <p:cNvSpPr/>
          <p:nvPr/>
        </p:nvSpPr>
        <p:spPr>
          <a:xfrm>
            <a:off x="7451640" y="6168960"/>
            <a:ext cx="1297080" cy="550800"/>
          </a:xfrm>
          <a:prstGeom prst="rect">
            <a:avLst/>
          </a:prstGeom>
          <a:noFill/>
          <a:ln w="64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33333"/>
                </a:solidFill>
                <a:latin typeface="Arial"/>
              </a:rPr>
              <a:t>LfULG (2004): Bodenschutz in der Landwirtschaft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Textfeld 1"/>
          <p:cNvSpPr/>
          <p:nvPr/>
        </p:nvSpPr>
        <p:spPr>
          <a:xfrm>
            <a:off x="5796000" y="6014880"/>
            <a:ext cx="1368360" cy="703080"/>
          </a:xfrm>
          <a:prstGeom prst="rect">
            <a:avLst/>
          </a:prstGeom>
          <a:noFill/>
          <a:ln w="64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33333"/>
                </a:solidFill>
                <a:latin typeface="Arial"/>
              </a:rPr>
              <a:t>LfULG (2013): Gefahrenabwehr bei Bodenerosion. Arbeitshilfe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37760" y="690480"/>
            <a:ext cx="8310600" cy="11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Bodenerosion durch Wind / Wasser - Maßnahmen zur Vermeidung von Bodenerosio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38120" y="2381040"/>
            <a:ext cx="826776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-35568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333333"/>
                </a:solidFill>
                <a:latin typeface="Arial"/>
              </a:rPr>
              <a:t>Aufbau &amp; Erhalt stabiler Bodenaggregate durch Förderung der biologischen Aktivität und Kalkung 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901800" indent="-36684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33"/>
                </a:solidFill>
                <a:latin typeface="Arial"/>
              </a:rPr>
              <a:t>Stabilität der Bodenaggregate an der Oberfläche wird erhöh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901800" indent="-36684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33"/>
                </a:solidFill>
                <a:latin typeface="Arial"/>
              </a:rPr>
              <a:t>Infiltrationsleistung der Böden optimieren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55680" indent="-35568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333333"/>
                </a:solidFill>
                <a:latin typeface="Arial"/>
              </a:rPr>
              <a:t>Vermeidung hangabwärtsgerichteter Fahrgasse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355680" indent="-35568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333333"/>
                </a:solidFill>
                <a:latin typeface="Arial"/>
              </a:rPr>
              <a:t>Vermeidung / Beseitigung infiltrationshemmender Bodenverdichtung 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Textfeld 1"/>
          <p:cNvSpPr/>
          <p:nvPr/>
        </p:nvSpPr>
        <p:spPr>
          <a:xfrm>
            <a:off x="7451640" y="6168960"/>
            <a:ext cx="1297080" cy="550800"/>
          </a:xfrm>
          <a:prstGeom prst="rect">
            <a:avLst/>
          </a:prstGeom>
          <a:noFill/>
          <a:ln w="64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33333"/>
                </a:solidFill>
                <a:latin typeface="Arial"/>
              </a:rPr>
              <a:t>LfULG (2004): Bodenschutz in der Landwirtschaft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Textfeld 1"/>
          <p:cNvSpPr/>
          <p:nvPr/>
        </p:nvSpPr>
        <p:spPr>
          <a:xfrm>
            <a:off x="5867280" y="6014880"/>
            <a:ext cx="1368720" cy="703080"/>
          </a:xfrm>
          <a:prstGeom prst="rect">
            <a:avLst/>
          </a:prstGeom>
          <a:noFill/>
          <a:ln w="64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33333"/>
                </a:solidFill>
                <a:latin typeface="Arial"/>
              </a:rPr>
              <a:t>LfULG (2013): Gefahrenabwehr bei Bodenerosion. Arbeitshilfe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37760" y="690480"/>
            <a:ext cx="8310600" cy="11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Bodenerosion durch Wind / Wasser - Maßnahmen zur Vermeidung von Bodenerosio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38120" y="2381040"/>
            <a:ext cx="826776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348480" indent="-34848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333333"/>
                </a:solidFill>
                <a:latin typeface="Arial"/>
              </a:rPr>
              <a:t>Erosionsmindernde Bodenbearbeitungs- &amp; Bestellverfahre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883440" indent="-35928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c00000"/>
                </a:solidFill>
                <a:latin typeface="Arial"/>
              </a:rPr>
              <a:t>Mulchsaat</a:t>
            </a:r>
            <a:r>
              <a:rPr b="1" lang="de-DE" sz="20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333333"/>
                </a:solidFill>
                <a:latin typeface="Arial"/>
              </a:rPr>
              <a:t>möglichst ohne Saatbettbereitung → Erhaltung der Bodenbedeckung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883440" indent="-35928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c00000"/>
                </a:solidFill>
                <a:latin typeface="Arial"/>
              </a:rPr>
              <a:t>konservierende Bodenbearbeitung </a:t>
            </a:r>
            <a:r>
              <a:rPr b="0" lang="de-DE" sz="2000" spc="-1" strike="noStrike">
                <a:solidFill>
                  <a:srgbClr val="333333"/>
                </a:solidFill>
                <a:latin typeface="Arial"/>
              </a:rPr>
              <a:t>(mit Mulchsaat möglichst im gesamten Fruchtfolgeverlauf)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1406160" indent="-34668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33"/>
                </a:solidFill>
                <a:latin typeface="Arial"/>
              </a:rPr>
              <a:t>Boden wird weitestgehend in seinem Aufbau belasse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2" marL="1406160" indent="-34668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33"/>
                </a:solidFill>
                <a:latin typeface="Arial"/>
              </a:rPr>
              <a:t>Anreicherung von Pflanzenresten auf der Bodenoberfläche bzw. in der oberen Bodenschicht → mikrobiologische Aktivität </a:t>
            </a:r>
            <a:r>
              <a:rPr b="0" lang="de-DE" sz="1800" spc="-1" strike="noStrike">
                <a:solidFill>
                  <a:srgbClr val="333333"/>
                </a:solidFill>
                <a:latin typeface="Arial"/>
                <a:ea typeface="Arial"/>
              </a:rPr>
              <a:t>↑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2" marL="1406160" indent="-34668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33"/>
                </a:solidFill>
                <a:latin typeface="Arial"/>
              </a:rPr>
              <a:t>höhere Stabilität von Bodenaggregaten &amp; Oberflächenrauhigkeit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2" marL="1406160" indent="-34668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33"/>
                </a:solidFill>
                <a:latin typeface="Arial"/>
              </a:rPr>
              <a:t>Zunahme der Lagerungsdichte im nicht gelockertem Bereich der Krum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4" name="Textfeld 1"/>
          <p:cNvSpPr/>
          <p:nvPr/>
        </p:nvSpPr>
        <p:spPr>
          <a:xfrm>
            <a:off x="7451640" y="6168960"/>
            <a:ext cx="1297080" cy="550800"/>
          </a:xfrm>
          <a:prstGeom prst="rect">
            <a:avLst/>
          </a:prstGeom>
          <a:noFill/>
          <a:ln w="64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33333"/>
                </a:solidFill>
                <a:latin typeface="Arial"/>
              </a:rPr>
              <a:t>LfULG (2004): Bodenschutz in der Landwirtschaft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38120" y="437760"/>
            <a:ext cx="665496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Bodenerosion durch Wind / Wasser - Vorsorgemaßnahm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95280" y="2133360"/>
            <a:ext cx="826776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44880" indent="-34488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333333"/>
                </a:solidFill>
                <a:latin typeface="Arial"/>
              </a:rPr>
              <a:t>Erosionsmindernde Bodenbearbeitungs- &amp; Bestellverfahre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874440" indent="-35568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c00000"/>
                </a:solidFill>
                <a:latin typeface="Arial"/>
              </a:rPr>
              <a:t>konservierende Bodenbearbeitung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1391760" indent="-34308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33"/>
                </a:solidFill>
                <a:latin typeface="Arial"/>
              </a:rPr>
              <a:t>in der obersten Bodenschicht kommt es zu einer Humusakkumula-tion → erhöhte Aggregatstabilität und Aufbau eines bis in größere Tiefen reichenden, ungestörten Makroporensystem  → Bodenaggregate sind besser durch die Zerstörung durch Regentropfen geschützt und die Bildung infiltrationshemmender Oberflächenverschlämmung und Bodenerosion wird gemindert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2" marL="1391760" indent="-34308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33"/>
                </a:solidFill>
                <a:latin typeface="Arial"/>
              </a:rPr>
              <a:t>Regenwasser kann schnell durch die Makroporen oder durch Regenwurmgänge in tiefere Bodenschichten abgeleitet werde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2" marL="1391760" indent="-34308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33"/>
                </a:solidFill>
                <a:latin typeface="Arial"/>
              </a:rPr>
              <a:t>Bodenabträge können um 65 – 85 % gegenüber der konventionellen Bearbeitung gemindert werde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Textfeld 1"/>
          <p:cNvSpPr/>
          <p:nvPr/>
        </p:nvSpPr>
        <p:spPr>
          <a:xfrm>
            <a:off x="7451640" y="6168960"/>
            <a:ext cx="1297080" cy="550800"/>
          </a:xfrm>
          <a:prstGeom prst="rect">
            <a:avLst/>
          </a:prstGeom>
          <a:noFill/>
          <a:ln w="64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33333"/>
                </a:solidFill>
                <a:latin typeface="Arial"/>
              </a:rPr>
              <a:t>LfULG (2004): Bodenschutz in der Landwirtschaft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" name="Textfeld 1"/>
          <p:cNvSpPr/>
          <p:nvPr/>
        </p:nvSpPr>
        <p:spPr>
          <a:xfrm>
            <a:off x="5292720" y="6168960"/>
            <a:ext cx="1871640" cy="550800"/>
          </a:xfrm>
          <a:prstGeom prst="rect">
            <a:avLst/>
          </a:prstGeom>
          <a:noFill/>
          <a:ln w="64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33333"/>
                </a:solidFill>
                <a:latin typeface="Arial"/>
              </a:rPr>
              <a:t>LfULG (2013): Gefahrenabwehr bei Bodenerosion. Arbeitshilfe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38120" y="437760"/>
            <a:ext cx="665496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Bodenerosion durch Wind / Wasser - Vorsorgemaßnahm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38120" y="2381040"/>
            <a:ext cx="826776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-35568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333333"/>
                </a:solidFill>
                <a:latin typeface="Arial"/>
              </a:rPr>
              <a:t>Beregnungsversuch nach 8 Jahren unterschiedlicher Bodenbearbeitung (</a:t>
            </a:r>
            <a:r>
              <a:rPr b="0" lang="de-DE" sz="2200" spc="-1" strike="noStrike">
                <a:solidFill>
                  <a:srgbClr val="333333"/>
                </a:solidFill>
                <a:latin typeface="Arial"/>
              </a:rPr>
              <a:t>Niederschlag 0,7 mm/min, Dauer 60 min</a:t>
            </a:r>
            <a:r>
              <a:rPr b="1" lang="de-DE" sz="2200" spc="-1" strike="noStrike">
                <a:solidFill>
                  <a:srgbClr val="333333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Textfeld 1"/>
          <p:cNvSpPr/>
          <p:nvPr/>
        </p:nvSpPr>
        <p:spPr>
          <a:xfrm>
            <a:off x="7451640" y="6168960"/>
            <a:ext cx="1297080" cy="550800"/>
          </a:xfrm>
          <a:prstGeom prst="rect">
            <a:avLst/>
          </a:prstGeom>
          <a:noFill/>
          <a:ln w="64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33333"/>
                </a:solidFill>
                <a:latin typeface="Arial"/>
              </a:rPr>
              <a:t>LfULG (2004): Bodenschutz in der Landwirtschaft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826920" y="3357720"/>
          <a:ext cx="6553440" cy="2863800"/>
        </p:xfrm>
        <a:graphic>
          <a:graphicData uri="http://schemas.openxmlformats.org/drawingml/2006/table">
            <a:tbl>
              <a:tblPr/>
              <a:tblGrid>
                <a:gridCol w="2737080"/>
                <a:gridCol w="2016000"/>
                <a:gridCol w="1800360"/>
              </a:tblGrid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844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Konventionell</a:t>
                      </a:r>
                      <a:endParaRPr b="0" lang="en-US" sz="18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844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Konservierend mit Mulchsaat</a:t>
                      </a:r>
                      <a:endParaRPr b="0" lang="en-US" sz="18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8444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  <a:ea typeface="ＭＳ Ｐゴシック"/>
                        </a:rPr>
                        <a:t>Bedeckungsgrad, %</a:t>
                      </a:r>
                      <a:endParaRPr b="0" lang="en-US" sz="18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9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  <a:ea typeface="ＭＳ Ｐゴシック"/>
                        </a:rPr>
                        <a:t>2</a:t>
                      </a:r>
                      <a:endParaRPr b="0" lang="en-US" sz="18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9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  <a:ea typeface="ＭＳ Ｐゴシック"/>
                        </a:rPr>
                        <a:t>30</a:t>
                      </a:r>
                      <a:endParaRPr b="0" lang="en-US" sz="18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9cf"/>
                    </a:solidFill>
                  </a:tcPr>
                </a:tc>
              </a:tr>
              <a:tr h="369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  <a:ea typeface="ＭＳ Ｐゴシック"/>
                        </a:rPr>
                        <a:t>Humusgehalt, %</a:t>
                      </a:r>
                      <a:endParaRPr b="0" lang="en-US" sz="18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d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  <a:ea typeface="ＭＳ Ｐゴシック"/>
                        </a:rPr>
                        <a:t>2,0</a:t>
                      </a:r>
                      <a:endParaRPr b="0" lang="en-US" sz="18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d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  <a:ea typeface="ＭＳ Ｐゴシック"/>
                        </a:rPr>
                        <a:t>2,6</a:t>
                      </a:r>
                      <a:endParaRPr b="0" lang="en-US" sz="18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de9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  <a:ea typeface="ＭＳ Ｐゴシック"/>
                        </a:rPr>
                        <a:t>Aggregatstabilität, %</a:t>
                      </a:r>
                      <a:endParaRPr b="0" lang="en-US" sz="18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9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  <a:ea typeface="ＭＳ Ｐゴシック"/>
                        </a:rPr>
                        <a:t>30,1</a:t>
                      </a:r>
                      <a:endParaRPr b="0" lang="en-US" sz="18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9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  <a:ea typeface="ＭＳ Ｐゴシック"/>
                        </a:rPr>
                        <a:t>43,1</a:t>
                      </a:r>
                      <a:endParaRPr b="0" lang="en-US" sz="18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9cf"/>
                    </a:solidFill>
                  </a:tcPr>
                </a:tc>
              </a:tr>
              <a:tr h="369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  <a:ea typeface="ＭＳ Ｐゴシック"/>
                        </a:rPr>
                        <a:t>Infiltrationsrate, %</a:t>
                      </a:r>
                      <a:endParaRPr b="0" lang="en-US" sz="18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d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  <a:ea typeface="ＭＳ Ｐゴシック"/>
                        </a:rPr>
                        <a:t>49,4</a:t>
                      </a:r>
                      <a:endParaRPr b="0" lang="en-US" sz="18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d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  <a:ea typeface="ＭＳ Ｐゴシック"/>
                        </a:rPr>
                        <a:t>70,9</a:t>
                      </a:r>
                      <a:endParaRPr b="0" lang="en-US" sz="18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de9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  <a:ea typeface="ＭＳ Ｐゴシック"/>
                        </a:rPr>
                        <a:t>Abfluss, l/m²</a:t>
                      </a:r>
                      <a:endParaRPr b="0" lang="en-US" sz="18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9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  <a:ea typeface="ＭＳ Ｐゴシック"/>
                        </a:rPr>
                        <a:t>21,2</a:t>
                      </a:r>
                      <a:endParaRPr b="0" lang="en-US" sz="18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9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  <a:ea typeface="ＭＳ Ｐゴシック"/>
                        </a:rPr>
                        <a:t>12,2</a:t>
                      </a:r>
                      <a:endParaRPr b="0" lang="en-US" sz="18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9cf"/>
                    </a:solidFill>
                  </a:tcPr>
                </a:tc>
              </a:tr>
              <a:tr h="3693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  <a:ea typeface="ＭＳ Ｐゴシック"/>
                        </a:rPr>
                        <a:t>Bodenabtrag, g/m²</a:t>
                      </a:r>
                      <a:endParaRPr b="0" lang="en-US" sz="18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d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  <a:ea typeface="ＭＳ Ｐゴシック"/>
                        </a:rPr>
                        <a:t>318</a:t>
                      </a:r>
                      <a:endParaRPr b="0" lang="en-US" sz="18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d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  <a:ea typeface="ＭＳ Ｐゴシック"/>
                        </a:rPr>
                        <a:t>138</a:t>
                      </a:r>
                      <a:endParaRPr b="0" lang="en-US" sz="18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de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38120" y="437760"/>
            <a:ext cx="665496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Bodenerosion durch Wind / Wasser - Vorsorgemaßnahm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23640" y="2339640"/>
            <a:ext cx="826740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-35568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333333"/>
                </a:solidFill>
                <a:latin typeface="Arial"/>
              </a:rPr>
              <a:t>Erosionsmindernde Bodenbearbeitungs- &amp; Bestellverfahre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901800" indent="-36684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c00000"/>
                </a:solidFill>
                <a:latin typeface="Arial"/>
              </a:rPr>
              <a:t>erosionsmindernde Flurgestaltung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1434960" indent="-35388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33"/>
                </a:solidFill>
                <a:latin typeface="Arial"/>
              </a:rPr>
              <a:t>Schlagunterteilung durch Anlage von Erosionsschutzstreife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3" marL="1969920" indent="-35532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333333"/>
                </a:solidFill>
                <a:latin typeface="Arial"/>
              </a:rPr>
              <a:t>z. B. Gehölze, Feldraine</a:t>
            </a:r>
            <a:endParaRPr b="0" lang="en-US" sz="1700" spc="-1" strike="noStrike">
              <a:solidFill>
                <a:srgbClr val="333333"/>
              </a:solidFill>
              <a:latin typeface="Arial"/>
            </a:endParaRPr>
          </a:p>
          <a:p>
            <a:pPr lvl="3" marL="1969920" indent="-35532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333333"/>
              </a:solidFill>
              <a:latin typeface="Arial"/>
            </a:endParaRPr>
          </a:p>
          <a:p>
            <a:pPr lvl="1" marL="901800" indent="-36684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33"/>
                </a:solidFill>
                <a:latin typeface="Arial"/>
              </a:rPr>
              <a:t>es werden Bewirtschaftungsmaßnahmen angestrebt, die maximale Bodenabträge von 2 – 3 t/ha/a zulassen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1434960" indent="-35388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33"/>
                </a:solidFill>
                <a:latin typeface="Arial"/>
              </a:rPr>
              <a:t>die Bodenneubildung beträgt etwa 1 cm in 100 Jahren (1 – 1,5 t/ha/a)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901800" indent="-36684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5" name="Textfeld 1"/>
          <p:cNvSpPr/>
          <p:nvPr/>
        </p:nvSpPr>
        <p:spPr>
          <a:xfrm>
            <a:off x="7451640" y="6168960"/>
            <a:ext cx="1297080" cy="550800"/>
          </a:xfrm>
          <a:prstGeom prst="rect">
            <a:avLst/>
          </a:prstGeom>
          <a:noFill/>
          <a:ln w="64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33333"/>
                </a:solidFill>
                <a:latin typeface="Arial"/>
              </a:rPr>
              <a:t>LfULG (2004): Bodenschutz in der Landwirtschaft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6" name="Textfeld 1"/>
          <p:cNvSpPr/>
          <p:nvPr/>
        </p:nvSpPr>
        <p:spPr>
          <a:xfrm>
            <a:off x="5724360" y="6014880"/>
            <a:ext cx="1368720" cy="703080"/>
          </a:xfrm>
          <a:prstGeom prst="rect">
            <a:avLst/>
          </a:prstGeom>
          <a:noFill/>
          <a:ln w="64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33333"/>
                </a:solidFill>
                <a:latin typeface="Arial"/>
              </a:rPr>
              <a:t>LfULG (2013): Gefahrenabwehr bei Bodenerosion. Arbeitshilfe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665460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00b050"/>
                </a:solidFill>
                <a:latin typeface="Arial"/>
              </a:rPr>
              <a:t>Kalkung gegen Erosio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feld 1"/>
          <p:cNvSpPr/>
          <p:nvPr/>
        </p:nvSpPr>
        <p:spPr>
          <a:xfrm>
            <a:off x="6300720" y="6093000"/>
            <a:ext cx="2448000" cy="703080"/>
          </a:xfrm>
          <a:prstGeom prst="rect">
            <a:avLst/>
          </a:prstGeom>
          <a:noFill/>
          <a:ln w="64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33333"/>
                </a:solidFill>
                <a:latin typeface="Arial"/>
              </a:rPr>
              <a:t>KNITTEL, ALBERT &amp; EBERTSEDER (2012): Praxishandbuch Dünger und Düngung. 2. Auflage, Agrimedia GmbH &amp; Co. KG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38120" y="2381040"/>
            <a:ext cx="826776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-35568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333333"/>
                </a:solidFill>
                <a:latin typeface="Arial"/>
              </a:rPr>
              <a:t>bei höheren pH-Werten sind die Bodenkrümel aufgrund der Lebendverbauung widerstandsfähiger gegen Verschlämmung und Erosion 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355680" indent="-35568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333333"/>
                </a:solidFill>
                <a:latin typeface="Arial"/>
              </a:rPr>
              <a:t>Kalkung sollte bei Fruchtfolgen zu Mais nicht vernachlässigt werden 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355680" indent="-35568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b050"/>
                </a:solidFill>
                <a:latin typeface="Arial"/>
              </a:rPr>
              <a:t>Lebendverbauung: </a:t>
            </a:r>
            <a:r>
              <a:rPr b="0" lang="de-DE" sz="2200" spc="-1" strike="noStrike">
                <a:solidFill>
                  <a:srgbClr val="333333"/>
                </a:solidFill>
                <a:latin typeface="Arial"/>
              </a:rPr>
              <a:t>Mikroorganismen des Bodens (z. B. Algen, Bakterien, Pilze) begünstigen die Aggregatbildung im Boden, indem sie die anorganischen Bodenteilchen mit Zwischenprodukten des mikrobiellen Abbaus verkleben und die Bodenkrümel umspanne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68000" y="115560"/>
            <a:ext cx="665460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Bodenverdichtu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95280" y="1700280"/>
            <a:ext cx="826776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marL="337680" indent="-33768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333333"/>
                </a:solidFill>
                <a:latin typeface="Arial"/>
              </a:rPr>
              <a:t>ein wichtiges Problem im Pflanzenbau und regional sehr differenziert → Oberflächenabfluss kann zunehme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337680" indent="-33768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333333"/>
                </a:solidFill>
                <a:latin typeface="Arial"/>
              </a:rPr>
              <a:t>Folgen von Bodenverdichtung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856440" indent="-34848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33"/>
                </a:solidFill>
                <a:latin typeface="Arial"/>
              </a:rPr>
              <a:t>Gefügeveränderungen mit negativen Rückwirkungen auf das Porensystem, die Bodenaggregate und den Luft- &amp; Wasserhaushalt der Böden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856440" indent="-34848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33"/>
                </a:solidFill>
                <a:latin typeface="Arial"/>
              </a:rPr>
              <a:t>verändertes Wachstum der Pflanzenbestände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856440" indent="-34848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33"/>
                </a:solidFill>
                <a:latin typeface="Arial"/>
              </a:rPr>
              <a:t>Mindererträge und größere Ertragsschwankungen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856440" indent="-34848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33"/>
                </a:solidFill>
                <a:latin typeface="Arial"/>
              </a:rPr>
              <a:t>ausgeprägte Plattenbildung mit erhöhtem mechanischen Eindringungswiderstand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856440" indent="-34848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33"/>
                </a:solidFill>
                <a:latin typeface="Arial"/>
              </a:rPr>
              <a:t>verminderte Wasserinfiltration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856440" indent="-34848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33"/>
                </a:solidFill>
                <a:latin typeface="Arial"/>
              </a:rPr>
              <a:t>uneinheitliche Bodenstruktur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856440" indent="-34848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33"/>
                </a:solidFill>
                <a:latin typeface="Arial"/>
              </a:rPr>
              <a:t>erhöhter Zugkraftbedarf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68000" y="115560"/>
            <a:ext cx="665460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Bodenverdichtu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95280" y="1700280"/>
            <a:ext cx="826776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-35568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333333"/>
                </a:solidFill>
                <a:latin typeface="Arial"/>
              </a:rPr>
              <a:t>ein wichtiges Problem im Pflanzenbau und regional sehr differenziert 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355680" indent="-35568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333333"/>
                </a:solidFill>
                <a:latin typeface="Arial"/>
              </a:rPr>
              <a:t>Lösungsansätze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901800" indent="-36684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33"/>
                </a:solidFill>
                <a:latin typeface="Arial"/>
              </a:rPr>
              <a:t>im Mittelpunkt steht das bodenschonende Befahren der Flächen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901800" indent="-36684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33"/>
                </a:solidFill>
                <a:latin typeface="Arial"/>
              </a:rPr>
              <a:t>konservierende Bodenbearbeitung in Kombination mit der Direktsaat → Tragfähigkeit der Böden wird erhöht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901800" indent="-36684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33"/>
                </a:solidFill>
                <a:latin typeface="Arial"/>
              </a:rPr>
              <a:t>nach Möglichkeit jedes Jahr die selben Fahrgassen wählen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901800" indent="-36684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33"/>
                </a:solidFill>
                <a:latin typeface="Arial"/>
              </a:rPr>
              <a:t>Einsatz von Reifendruckregelanlagen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901800" indent="-36684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33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38120" y="437760"/>
            <a:ext cx="665496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Inhal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38120" y="2381040"/>
            <a:ext cx="826776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-35568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333333"/>
                </a:solidFill>
                <a:latin typeface="Arial"/>
              </a:rPr>
              <a:t>Anhaltspunkte für Erosion 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355680" indent="-35568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333333"/>
                </a:solidFill>
                <a:latin typeface="Arial"/>
              </a:rPr>
              <a:t>Bodenerosion durch Wind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355680" indent="-35568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333333"/>
                </a:solidFill>
                <a:latin typeface="Arial"/>
              </a:rPr>
              <a:t>Bodenerosion durch Wasser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355680" indent="-35568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333333"/>
                </a:solidFill>
                <a:latin typeface="Arial"/>
              </a:rPr>
              <a:t>Bodenerosion erkennen lernen 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355680" indent="-35568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333333"/>
                </a:solidFill>
                <a:latin typeface="Arial"/>
              </a:rPr>
              <a:t>Maßnahmen zur Vermeidung von Bodenerosion 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38120" y="437760"/>
            <a:ext cx="665496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Anhaltspunkte für Erosio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38120" y="2381040"/>
            <a:ext cx="826776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-35568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333333"/>
                </a:solidFill>
                <a:latin typeface="Arial"/>
              </a:rPr>
              <a:t>Anhaltspunkte</a:t>
            </a:r>
            <a:r>
              <a:rPr b="0" lang="de-DE" sz="2200" spc="-1" strike="noStrike">
                <a:solidFill>
                  <a:srgbClr val="333333"/>
                </a:solidFill>
                <a:latin typeface="Arial"/>
              </a:rPr>
              <a:t> (lassen sich eher an der Erosion durch Wasser festmachen) für Erosion sind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901800" indent="-36684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33"/>
                </a:solidFill>
                <a:latin typeface="Arial"/>
              </a:rPr>
              <a:t>abgeschwemmtes Bodenmaterial außerhalb der Erosionsfläche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901800" indent="-36684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33"/>
                </a:solidFill>
                <a:latin typeface="Arial"/>
              </a:rPr>
              <a:t>erkennbare Erosionsformen auf der Erosionsfläche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55680" indent="-35568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333333"/>
                </a:solidFill>
                <a:latin typeface="Arial"/>
              </a:rPr>
              <a:t>konkrete Anhaltspunkte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901800" indent="-36684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33"/>
                </a:solidFill>
                <a:latin typeface="Arial"/>
              </a:rPr>
              <a:t>Fließwege von Wasser erkennbar, ebenso die Erosions- und Depositionsfläche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901800" indent="-36684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33"/>
                </a:solidFill>
                <a:latin typeface="Arial"/>
              </a:rPr>
              <a:t>Erosionsausmaß kann ermittelt werden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37760" y="437760"/>
            <a:ext cx="831060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Bodenerosion durch Wi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38120" y="2381040"/>
            <a:ext cx="826776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-35568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333333"/>
                </a:solidFill>
                <a:latin typeface="Arial"/>
              </a:rPr>
              <a:t>Verlagerung von Bodenmaterial an der Bodenoberfläche durch Wind als Transportmittel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355680" indent="-35568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333333"/>
                </a:solidFill>
                <a:latin typeface="Arial"/>
              </a:rPr>
              <a:t>in Sachsen besteht auf 150.000 ha (ca. 20 % der Ackerfläche) die potenzielle Gefahr von Winderosion 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901800" indent="-36684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33"/>
                </a:solidFill>
                <a:latin typeface="Arial"/>
              </a:rPr>
              <a:t>vorwiegend auf den diluvialen Böden in Nordsachsen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901800" indent="-36684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33"/>
                </a:solidFill>
                <a:latin typeface="Arial"/>
              </a:rPr>
              <a:t>Böden sind trocken und nicht mit Pflanzen / Pflanzenresten bedeckt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55680" indent="-35568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333333"/>
                </a:solidFill>
                <a:latin typeface="Arial"/>
              </a:rPr>
              <a:t>ab Windgeschwindigkeiten von mehr als 5-6 m/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355680" indent="-355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333333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Textfeld 1"/>
          <p:cNvSpPr/>
          <p:nvPr/>
        </p:nvSpPr>
        <p:spPr>
          <a:xfrm>
            <a:off x="7451640" y="6168960"/>
            <a:ext cx="1297080" cy="550800"/>
          </a:xfrm>
          <a:prstGeom prst="rect">
            <a:avLst/>
          </a:prstGeom>
          <a:noFill/>
          <a:ln w="64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33333"/>
                </a:solidFill>
                <a:latin typeface="Arial"/>
              </a:rPr>
              <a:t>LfULG (2004): Bodenschutz in der Landwirtschaft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37760" y="437760"/>
            <a:ext cx="831060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Bodenerosion durch Wass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38120" y="2381040"/>
            <a:ext cx="826776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-35568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333333"/>
                </a:solidFill>
                <a:latin typeface="Arial"/>
              </a:rPr>
              <a:t>Verlagerung von Bodenmaterial an der Bodenoberfläche durch Wasser als Transportmittel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355680" indent="-35568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333333"/>
                </a:solidFill>
                <a:latin typeface="Arial"/>
              </a:rPr>
              <a:t>in Sachsen besteht auf 450.000 ha (ca. 60 % der Ackerfläche) die potenzielle Gefahr von Winderosion 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901800" indent="-36684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33"/>
                </a:solidFill>
                <a:latin typeface="Arial"/>
              </a:rPr>
              <a:t>oft auf schluffreichen, stärker geneigten Böden der Löss- &amp; Sandlösslandschaften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55680" indent="-355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333333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" name="Textfeld 1"/>
          <p:cNvSpPr/>
          <p:nvPr/>
        </p:nvSpPr>
        <p:spPr>
          <a:xfrm>
            <a:off x="7451640" y="6168960"/>
            <a:ext cx="1297080" cy="550800"/>
          </a:xfrm>
          <a:prstGeom prst="rect">
            <a:avLst/>
          </a:prstGeom>
          <a:noFill/>
          <a:ln w="64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33333"/>
                </a:solidFill>
                <a:latin typeface="Arial"/>
              </a:rPr>
              <a:t>LfULG (2004): Bodenschutz in der Landwirtschaft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37760" y="437760"/>
            <a:ext cx="831060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Bodenerosion durch Wass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38120" y="2381040"/>
            <a:ext cx="826776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-35568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0000"/>
                </a:solidFill>
                <a:latin typeface="Arial"/>
              </a:rPr>
              <a:t>Gefährdung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901800" indent="-36684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33"/>
                </a:solidFill>
                <a:latin typeface="Arial"/>
              </a:rPr>
              <a:t>geneigte Ackerflächen mit schluff- &amp; feinsandreichen Böden ohne schützende Pflanzendecke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901800" indent="-36684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33"/>
                </a:solidFill>
                <a:latin typeface="Arial"/>
              </a:rPr>
              <a:t>besonders gefährdet sind Ackerflächen aus schluffreichem Löss direkt nach der Saatbettbereitung bis zur Ausbildung einer schützenden Pflanzendecke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901800" indent="-36684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33"/>
                </a:solidFill>
                <a:latin typeface="Arial"/>
              </a:rPr>
              <a:t>Niederschläge mit einer entsprechenden Menge oder Intensität sind notwendig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1434960" indent="-35388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33333"/>
                </a:solidFill>
                <a:latin typeface="Arial"/>
              </a:rPr>
              <a:t>Richtwert: </a:t>
            </a:r>
            <a:r>
              <a:rPr b="0" lang="de-DE" sz="1800" spc="-1" strike="noStrike">
                <a:solidFill>
                  <a:srgbClr val="333333"/>
                </a:solidFill>
                <a:latin typeface="Arial"/>
              </a:rPr>
              <a:t>7,5 l/m² oder 5 l/m² * 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2" marL="1434960" indent="-35388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33333"/>
                </a:solidFill>
                <a:latin typeface="Arial"/>
              </a:rPr>
              <a:t>infiltrationshemmende </a:t>
            </a:r>
            <a:r>
              <a:rPr b="0" lang="de-DE" sz="1800" spc="-1" strike="noStrike">
                <a:solidFill>
                  <a:srgbClr val="333333"/>
                </a:solidFill>
                <a:latin typeface="Arial"/>
              </a:rPr>
              <a:t>Oberflächenverschlämmung kann ausgelöst werde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Textfeld 1"/>
          <p:cNvSpPr/>
          <p:nvPr/>
        </p:nvSpPr>
        <p:spPr>
          <a:xfrm>
            <a:off x="7451640" y="6168960"/>
            <a:ext cx="1297080" cy="550800"/>
          </a:xfrm>
          <a:prstGeom prst="rect">
            <a:avLst/>
          </a:prstGeom>
          <a:noFill/>
          <a:ln w="64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33333"/>
                </a:solidFill>
                <a:latin typeface="Arial"/>
              </a:rPr>
              <a:t>LfULG (2004): Bodenschutz in der Landwirtschaft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"/>
          <p:cNvPicPr/>
          <p:nvPr/>
        </p:nvPicPr>
        <p:blipFill>
          <a:blip r:embed="rId1"/>
          <a:srcRect l="54378" t="11223" r="2189" b="13407"/>
          <a:stretch/>
        </p:blipFill>
        <p:spPr>
          <a:xfrm>
            <a:off x="1187280" y="1125360"/>
            <a:ext cx="6986880" cy="511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38120" y="437760"/>
            <a:ext cx="766296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Bodenerosion (B.) durch Wasser erkennen lernen!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38120" y="2381040"/>
            <a:ext cx="826776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-35568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333333"/>
                </a:solidFill>
                <a:latin typeface="Arial"/>
              </a:rPr>
              <a:t>B. tritt sehr unregelmäßig und räumlich begrenzt auf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355680" indent="-35568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333333"/>
                </a:solidFill>
                <a:latin typeface="Arial"/>
              </a:rPr>
              <a:t>B. durch Wasser ist in hügeligen Regionen sehr dominant 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355680" indent="-35568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333333"/>
                </a:solidFill>
                <a:latin typeface="Arial"/>
              </a:rPr>
              <a:t>B. kann in </a:t>
            </a:r>
            <a:r>
              <a:rPr b="0" lang="de-DE" sz="2200" spc="-1" strike="noStrike" u="sng">
                <a:solidFill>
                  <a:srgbClr val="333333"/>
                </a:solidFill>
                <a:uFillTx/>
                <a:latin typeface="Arial"/>
              </a:rPr>
              <a:t>flächenhafter</a:t>
            </a:r>
            <a:r>
              <a:rPr b="0" lang="de-DE" sz="2200" spc="-1" strike="noStrike">
                <a:solidFill>
                  <a:srgbClr val="333333"/>
                </a:solidFill>
                <a:latin typeface="Arial"/>
              </a:rPr>
              <a:t> oder </a:t>
            </a:r>
            <a:r>
              <a:rPr b="0" lang="de-DE" sz="2200" spc="-1" strike="noStrike" u="sng">
                <a:solidFill>
                  <a:srgbClr val="333333"/>
                </a:solidFill>
                <a:uFillTx/>
                <a:latin typeface="Arial"/>
              </a:rPr>
              <a:t>linienhafter</a:t>
            </a:r>
            <a:r>
              <a:rPr b="0" lang="de-DE" sz="2200" spc="-1" strike="noStrike">
                <a:solidFill>
                  <a:srgbClr val="333333"/>
                </a:solidFill>
                <a:latin typeface="Arial"/>
              </a:rPr>
              <a:t> Form auftreten 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355680" indent="-35568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333333"/>
                </a:solidFill>
                <a:latin typeface="Arial"/>
              </a:rPr>
              <a:t>Flächenhafte Erosionsform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901800" indent="-36684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33"/>
                </a:solidFill>
                <a:latin typeface="Arial"/>
              </a:rPr>
              <a:t>bestehen aus keinen, wenig bis gar nicht messbaren Formen auf der Ackerfläche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901800" indent="-36684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 u="sng">
                <a:solidFill>
                  <a:srgbClr val="333333"/>
                </a:solidFill>
                <a:uFillTx/>
                <a:latin typeface="Arial"/>
              </a:rPr>
              <a:t>„</a:t>
            </a:r>
            <a:r>
              <a:rPr b="0" i="1" lang="de-DE" sz="2000" spc="-1" strike="noStrike" u="sng">
                <a:solidFill>
                  <a:srgbClr val="333333"/>
                </a:solidFill>
                <a:uFillTx/>
                <a:latin typeface="Arial"/>
              </a:rPr>
              <a:t>Splash-Erosion“</a:t>
            </a:r>
            <a:r>
              <a:rPr b="0" lang="de-DE" sz="2000" spc="-1" strike="noStrike">
                <a:solidFill>
                  <a:srgbClr val="333333"/>
                </a:solidFill>
                <a:latin typeface="Arial"/>
              </a:rPr>
              <a:t>: durch die direkte Kraft eines aufprallenden Regentropfens werden Bodenpartikel aus ihrem Verbund gelöst </a:t>
            </a:r>
            <a:r>
              <a:rPr b="0" lang="de-DE" sz="2000" spc="-1" strike="noStrike">
                <a:solidFill>
                  <a:srgbClr val="333333"/>
                </a:solidFill>
                <a:latin typeface="Arial"/>
                <a:ea typeface="Arial"/>
              </a:rPr>
              <a:t>→ kleiner und größere Bodenklumpen und –aggregate werden zerstört und die Ackerkrume flächig verschlämmt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" name="Textfeld 3"/>
          <p:cNvSpPr/>
          <p:nvPr/>
        </p:nvSpPr>
        <p:spPr>
          <a:xfrm>
            <a:off x="6469200" y="6165720"/>
            <a:ext cx="2449440" cy="550800"/>
          </a:xfrm>
          <a:prstGeom prst="rect">
            <a:avLst/>
          </a:prstGeom>
          <a:noFill/>
          <a:ln w="64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33333"/>
                </a:solidFill>
                <a:latin typeface="Arial"/>
              </a:rPr>
              <a:t>UMWELT BUNDESAMT (2016) Wie erkennen wir Bodenerosion durch Wasser?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38120" y="437760"/>
            <a:ext cx="665496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Boden als Wasserspeicher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38120" y="2381040"/>
            <a:ext cx="826776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-35568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333333"/>
                </a:solidFill>
                <a:latin typeface="Arial"/>
              </a:rPr>
              <a:t>Wasser ist der wichtigste Produktionsfaktor, der nicht käuflich zu erwerben ist!!!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355680" indent="-35568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333333"/>
                </a:solidFill>
                <a:latin typeface="Arial"/>
              </a:rPr>
              <a:t>je nach Boden können 80 bis 240 l/m² auf 1 m Tiefe gespeichert werde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355680" indent="-35568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333333"/>
                </a:solidFill>
                <a:latin typeface="Arial"/>
              </a:rPr>
              <a:t>Verteilung der Niederschläge ist oft sehr ungleichmäßig 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355680" indent="-35568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333333"/>
                </a:solidFill>
                <a:latin typeface="Arial"/>
              </a:rPr>
              <a:t>bei  Regen muss der Boden in der Lage sein, Wasser aufzunehmen und bei Trockenheit den Pflanzenwurzel zur Verfügung zu stellen 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0T07:10:19Z</dcterms:created>
  <dc:creator>Müller, Tino - LfULG</dc:creator>
  <dc:description/>
  <dc:language>en-US</dc:language>
  <cp:lastModifiedBy>Barbara</cp:lastModifiedBy>
  <dcterms:modified xsi:type="dcterms:W3CDTF">2018-12-17T15:45:32Z</dcterms:modified>
  <cp:revision>100</cp:revision>
  <dc:subject/>
  <dc:title>Ohne Zweitlogo: Titel der Präsentation Arial 26</dc:title>
</cp:coreProperties>
</file>