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7F78-96CD-4F11-81EA-1DC1FD25AB8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9AA-A555-4C8F-BB62-D2891A0AA8E9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1FB2-1511-4D75-9392-B51808014DB2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Erhaltung der Bodenfruchtbarkeit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Ursachen für Erosion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AE4E-52B7-4092-9C8C-FE79A5FC827D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8" descr="Titelgrafik - LfULG"/>
          <p:cNvPicPr/>
          <p:nvPr/>
        </p:nvPicPr>
        <p:blipFill>
          <a:blip r:embed="rId1"/>
          <a:srcRect l="1555" t="0" r="1777" b="0"/>
          <a:stretch/>
        </p:blipFill>
        <p:spPr>
          <a:xfrm>
            <a:off x="0" y="1844640"/>
            <a:ext cx="9148680" cy="389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144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8120" y="1579320"/>
            <a:ext cx="66549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8444"/>
                </a:solidFill>
                <a:latin typeface="Arial"/>
              </a:rPr>
              <a:t>Ursachen für Eros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38120" y="980640"/>
            <a:ext cx="66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haltung der Bodenfruchtbar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er Aufschlag der Regentropfen mit hoher kinetischer Energie (</a:t>
            </a: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starker Niederschlag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) zerstört Bodenaggregat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abei losgelöste Bodenteilchen werden kleinräumig umgelagert &amp; verdichtet → 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infiltrationshemmende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berflächenverschlämmung bildet sich au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it dem Oberflächenabfluss werden losgelöste Bodenpartikel transportier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illen- / Grabenerosion tritt auf (durch Konzentration vom abfließenden Wasser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bereits ab 50 m Länge sind erhebliche lokale Bodenabträge möglich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efährd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neigte Ackerflächen mit schluff- &amp; feinsandreichen Böden ohne schützende Pflanzendeck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onders als gefährdet werden Ackerflächen aus schluffreichem Löss direkt nach der Saatbettbereitung bis zur Ausbildung einer schützenden Pflanzendeck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iederschlag mit einer entsprechenden Menge oder Intensität ist notwendi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Richtwert: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7,5 l/m² oder 5 l/m² * 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infiltrationshemmende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Oberflächenverschlämmung kann ausgelöst werd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rcRect l="54378" t="11223" r="2189" b="13407"/>
          <a:stretch/>
        </p:blipFill>
        <p:spPr>
          <a:xfrm>
            <a:off x="1187280" y="1125360"/>
            <a:ext cx="69868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haltspunkte für 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Anhaltspunkte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(lassen sich eher an der Erosion durch Wasser festmachen) für Erosion sind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bgeschwemmtes Bodenmaterial innerhalb der Erosions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kennbare Erosionsformen auf der Erosionsfläch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ngeschwemmtes Bodenmaterial außerhalb der Erosions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konkrete Anhaltspunkte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Fließwege von Wasser erkennbar, ebenso die Erosions- und Depositions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osionsausmaß kann ermittelt werd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" name="Inhaltsplatzhalter 6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deutendste Ursache ist der Ackerbau durch den Mensch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Natürliche Einflussverfahr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lima (Niederschlagsintensität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 (Erosionsanfälligkeit der Korngröß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ländebeschaffenheit (Gefälle und Geländeform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Grundsatz: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tarke Regenfälle in Verbindung mit sehr erosions-anfälligen Böden in Hanglagen bedeutet ein hohes Risiko für Eros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onders </a:t>
            </a:r>
            <a:r>
              <a:rPr b="0" lang="de-DE" sz="2000" spc="-1" strike="noStrike" u="sng">
                <a:solidFill>
                  <a:srgbClr val="333333"/>
                </a:solidFill>
                <a:uFillTx/>
                <a:latin typeface="Arial"/>
              </a:rPr>
              <a:t>ausgetrocknete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 oder </a:t>
            </a:r>
            <a:r>
              <a:rPr b="0" lang="de-DE" sz="2000" spc="-1" strike="noStrike" u="sng">
                <a:solidFill>
                  <a:srgbClr val="333333"/>
                </a:solidFill>
                <a:uFillTx/>
                <a:latin typeface="Arial"/>
              </a:rPr>
              <a:t>nasse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 Böden sind anfällig für Eros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Niederschlagsintensität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im Winter / Frühjahr sind eher lang anhaltende Niederschläge mit geringer Intensität der Auslöser für Eros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im Juni und im Spätsommer ist die Häufigkeit von Stark- und Gewitterregen ausschlaggeben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Faustregel: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Regenereignisse mit mehr als 10 l/m² können Erosion auslös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Korngrößenzusammensetzung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es Bodens</a:t>
            </a: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ehr anfällig sind Böden mit einem hohen Schluffanteil (v.a. Lößböd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Schutz bieten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hoher Anteil von Pflanzenresten, Steinen und Humus auf der Bodenoberfläche (Schutz vor dem auftreffenden Regentropfen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aktives Bodenleben (viele senkrechte Bodenporen, kleine Röhren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  <a:ea typeface="Arial"/>
              </a:rPr>
              <a:t>→ Versickern wird gefordert und Oberflächenabfluss verringert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Geländebeschaffenheit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röße des Gefälles und die Form des Geländes sind entscheidend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→ besonders, wenn die Bearbeitung in Richtung des Gefälles erfolg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austregel: 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on ab 2 % Gefälle kann Bodenerosion einsetz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1773000"/>
            <a:ext cx="82677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influss der Bewirtschaf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triebliche Anpassung a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377360" indent="-339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33"/>
                </a:solidFill>
                <a:latin typeface="Arial"/>
              </a:rPr>
              <a:t>Hanglänge (H.)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(Flurgestaltung, Geometrie und Größe der Ackerfläch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89108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H. = Strecke, die ohne Hindernisse für den Abfluss des Wassers zur Verfügung steht 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189108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je länger der Hang, desto größer das Risiko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189108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bei starken Gefällen haben auch geringe Fließstrecken ein hohes Risiko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2" marL="1377360" indent="-339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33"/>
                </a:solidFill>
                <a:latin typeface="Arial"/>
              </a:rPr>
              <a:t>Kulturarten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(Vielfalt und Abfolge der Kulturarten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89108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Grad der Bodenbedeckung zu bestimmten Zeiten wird beeinflusst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189108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Hackfrüchte und Mais sind besonders anfällige Kulturen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189108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ab 30% = Minimum der Bodenbedeckung, welche als wirksamer Schutz gilt 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234936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os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sgangslag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deutende Erosionsformen in der Landwirtschaf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erosion durch Win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erosion durch Wass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 durch Wasser erkennen lernen!!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Gründe / Ursachen der Bodenerosion durch Wass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bearbeit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verdicht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bearbeitungsrichtung in Abhängigkeit von der Parzellenstruktur und Hanglä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088400" cy="3527640"/>
          </a:xfrm>
          <a:prstGeom prst="rect">
            <a:avLst/>
          </a:prstGeom>
          <a:ln w="0">
            <a:noFill/>
          </a:ln>
        </p:spPr>
      </p:pic>
      <p:sp>
        <p:nvSpPr>
          <p:cNvPr id="145" name="Textfeld 3"/>
          <p:cNvSpPr/>
          <p:nvPr/>
        </p:nvSpPr>
        <p:spPr>
          <a:xfrm>
            <a:off x="5894280" y="6103800"/>
            <a:ext cx="309564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Quelle: UMWELTBUNDESAMT: http://www.umweltbundesamt.de/themen/boden-landwirtschaft/bodenbelastungen/erosion#textpart-3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988640"/>
            <a:ext cx="82677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influss der Bewirtschaf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triebliche Anpassung a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33"/>
                </a:solidFill>
                <a:latin typeface="Arial"/>
              </a:rPr>
              <a:t>Bearbeitungssystem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(Bestellweise und –intensität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konventionell (mit Pflug) </a:t>
            </a:r>
            <a:r>
              <a:rPr b="0" lang="de-DE" sz="1700" spc="-1" strike="noStrike">
                <a:solidFill>
                  <a:srgbClr val="333333"/>
                </a:solidFill>
                <a:latin typeface="Arial"/>
                <a:ea typeface="Arial"/>
              </a:rPr>
              <a:t>→ </a:t>
            </a:r>
            <a:r>
              <a:rPr b="0" lang="de-DE" sz="1700" spc="-1" strike="noStrike">
                <a:solidFill>
                  <a:srgbClr val="ff0000"/>
                </a:solidFill>
                <a:latin typeface="Arial"/>
                <a:ea typeface="Arial"/>
              </a:rPr>
              <a:t>wirkt Erosionsschutz entgegen</a:t>
            </a:r>
            <a:r>
              <a:rPr b="0" lang="de-DE" sz="1700" spc="-1" strike="noStrike">
                <a:solidFill>
                  <a:srgbClr val="333333"/>
                </a:solidFill>
                <a:latin typeface="Arial"/>
                <a:ea typeface="Arial"/>
              </a:rPr>
              <a:t>, durch: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es verbleiben keine Erntereste auf dem Bod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Struktur des Bodens wird zerstört (Boden verliert seine senkrechten Röhren für die Versickerung des Regenwassers und seine Stabilitä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  <a:ea typeface="Arial"/>
              </a:rPr>
              <a:t>konservierend (ohne Pflug) → </a:t>
            </a:r>
            <a:r>
              <a:rPr b="0" lang="de-DE" sz="1700" spc="-1" strike="noStrike">
                <a:solidFill>
                  <a:srgbClr val="008444"/>
                </a:solidFill>
                <a:latin typeface="Arial"/>
                <a:ea typeface="Arial"/>
              </a:rPr>
              <a:t>Schutz vor Erosion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Boden behält seine Struktur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schonendste Form ist die Direktsaat (Boden ist dauerhaft bedeck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988640"/>
            <a:ext cx="82677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influss der Bewirtschaf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triebliche Anpassung a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33"/>
                </a:solidFill>
                <a:latin typeface="Arial"/>
              </a:rPr>
              <a:t>Bearbeitungssystem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(Bestellweise und –intensität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  <a:ea typeface="Arial"/>
              </a:rPr>
              <a:t>konservierend (ohne Pflug) → </a:t>
            </a:r>
            <a:r>
              <a:rPr b="0" lang="de-DE" sz="1700" spc="-1" strike="noStrike">
                <a:solidFill>
                  <a:srgbClr val="008444"/>
                </a:solidFill>
                <a:latin typeface="Arial"/>
                <a:ea typeface="Arial"/>
              </a:rPr>
              <a:t>Schutz vor Erosion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Erosionsschutz ist umso stärker ausgeprägt, je mehr organisches Material den Boden bedeck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Verschlämmungsgefahr sink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  <a:ea typeface="Arial"/>
              </a:rPr>
              <a:t>mikrobielle Aktivität steigt → Regenwürmer lassen biogene Vertikalporen im Boden entstehen → Wasserinfiltration ist gewährleistet und der Oberflächenabfluss vermindert sich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0000"/>
                </a:solidFill>
                <a:latin typeface="Arial"/>
                <a:ea typeface="Arial"/>
              </a:rPr>
              <a:t>!! </a:t>
            </a:r>
            <a:r>
              <a:rPr b="1" lang="de-DE" sz="1700" spc="-1" strike="noStrike">
                <a:solidFill>
                  <a:srgbClr val="333333"/>
                </a:solidFill>
                <a:latin typeface="Arial"/>
                <a:ea typeface="Arial"/>
              </a:rPr>
              <a:t>Erosionsschutz </a:t>
            </a:r>
            <a:r>
              <a:rPr b="0" lang="de-DE" sz="1700" spc="-1" strike="noStrike">
                <a:solidFill>
                  <a:srgbClr val="333333"/>
                </a:solidFill>
                <a:latin typeface="Arial"/>
                <a:ea typeface="Arial"/>
              </a:rPr>
              <a:t>erfordert lange Zeiträume der Bodenbedeckung und der Bodenruhe, um das Bodenleben zu fördern </a:t>
            </a:r>
            <a:r>
              <a:rPr b="1" lang="de-DE" sz="1700" spc="-1" strike="noStrike">
                <a:solidFill>
                  <a:srgbClr val="ff0000"/>
                </a:solidFill>
                <a:latin typeface="Arial"/>
                <a:ea typeface="Arial"/>
              </a:rPr>
              <a:t>!!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734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ünde / Ursachen der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988640"/>
            <a:ext cx="82677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influss der Bewirtschaf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triebliche Anpassung a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33"/>
                </a:solidFill>
                <a:latin typeface="Arial"/>
              </a:rPr>
              <a:t>Bearbeitungsrichtung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(Anordnung der Bearbeitungsrichtung zum Gefäll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wesentlicher Einflussfaktor ist die Bearbeitung in Richtung Gefälle oder hangparallel quer zum Gefälle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Fahrspuren beeinflussen die Erosion noch deutlicher 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6227640" y="6165720"/>
            <a:ext cx="2376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odurch kommt es zu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verdich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5280" y="1700280"/>
            <a:ext cx="8267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37680" indent="-337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in wichtiges Problem im Pflanzenbau und regional sehr differenzier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Folgen von Bodenverdich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fügeveränderungen mit negativen Rückwirkungen auf das Porensystem, die Bodenaggregate und den Luft- &amp; Wasserhaushalt der Böd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ändertes Wachstum der Pflanzenbestän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indererträge und größere Ertragsschwankung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usgeprägte Plattenbildung mit erhöhtem mechanischen Eindringungswiderstan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minderte Wasserinfiltr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einheitliche Bodenstruktu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höhter Zugkraftbedarf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osion ist die natürliche Abtragung (natürlicher Verlust) von Gesteinen oder Boden und deren Ablagerung an anderer Stell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 der Landwirtschaft sind die Erosion durch Wasser und Wind von Bedeut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sgangsl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urch Bewirtschaftungsmaßnahmen lassen sich gezielt 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Bodenstruktur (insbesondere die Infiltratio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as Wasserhaltevermög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Durchwurzelbarke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Nährstoffmineralis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Humusgehal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biologische Aktivitä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gespeicherte Nährstoffvorr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einfluss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sgangslage in Sachs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m mittleren und südlichen Teil Sachsens sind rund 60% der Ackerfläche potenziell durch Wassererosion gefährdet und teilweise im Einzeljahr betroff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luffreiche, vorwiegend ackerbaulich genutzte Löss- &amp; Verwitterungsbö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onders Bergkuppen und Oberhänge sind je nach Bodenbe-arbeitung besonders erosionsgefährdet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→</a:t>
            </a: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im Extremfall hat der Bodenverlust die Aufgabe der ackerbaulichen Nutzung zur Folg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Ertragsunterschiede zwischen Kuppe, Oberhang und Senke sind bereits heute in Trockenjahren deutlich zu beobacht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feld 3"/>
          <p:cNvSpPr/>
          <p:nvPr/>
        </p:nvSpPr>
        <p:spPr>
          <a:xfrm>
            <a:off x="4859280" y="5892840"/>
            <a:ext cx="395928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ZIMMERMAN; SCHMIDT &amp; BÖRNER (2010): Untersuchungen zu acker- und pflanzenbaulichen Auswirkungen einer dauerhaft konservierenden Bodenbearbeitung. Schriftenreihe, Heft 15/2010. Mehrländerprojekt Agrarbezogener Bodenschutz. Sächsisches Landesamt für Umwelt, Landwirtschaft und Geologie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lagerung von Bodenmaterial an der Bodenoberfläche durch Wind als Transportmitt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Unterteilung in Gebiete mit 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vorwiegend Abtra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vorwiegend Auftra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 Sachsen besteht auf 150.000 ha (ca. 20 % der Ackerfläche) die potenzielle Gefahr von Wind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orwiegend auf den diluvialen Böden in Nordsachs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b Windgeschwindigkeiten von mehr als 5-6 m/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größere Bodenteilchen werden an der Bodenoberfläche bewegt und lösen z. T. durch Stoß springende Bewegungen kleinerer Bodenteilchen au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kleinere Bodenteilchen werden durch Stoß und / oder durch turbulenten Wind in die Luft gehob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Transport mit dem Wind nur über kurze Entfernung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urch Aufprall entstehen kleineste Bodenteilchen (z. B. Ton, Schluff &amp; Humus) → Transport über weitere Entfernung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efährd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trockene, nicht bedeckte Flächen mit hohem Feinstaubantei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onders gefährdet sind gepflügte Flächen im Zeitraum nach der Saatbettbereitung bis zum Aufwuchs einer schützenden Pflanzendeck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lagerung von Bodenmaterial an der Bodenoberfläche durch Wasser als Transportmitt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Unterteilung in Gebiete mit 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vorwiegend Abtra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vorwiegend Auftra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 Sachsen besteht auf 450.000 ha (ca. 60 % der Ackerfläche) die potenzielle Gefahr von Wasser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ft auf schluffreichen, stärker geneigten Böden der Löss- &amp; Sandlösslandschaft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17T16:49:12Z</dcterms:modified>
  <cp:revision>96</cp:revision>
  <dc:subject/>
  <dc:title>Ohne Zweitlogo: Titel der Präsentation Arial 26</dc:title>
</cp:coreProperties>
</file>