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539-3828-4953-89FA-8C02EAE2F2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E59-760E-4262-A68D-02534D00ADD5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DA38-1F61-4AD7-B416-2150FC9CF21C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Bodenfruchtbarkeit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Allgemeines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FC1-B99A-4BB7-89A0-A7D8518C3F93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Allgemeine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66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odenfrucht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e langfriste Bindung von organischen Kohlenstoff in Böden (sog. Kohlenstoff-Sequestrierung) lässt sich nur über eine dauerhafte und lückenlos umgesetzte humusfördernde Bewirtschaftung realisier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organischer Kohlenstoffvorrat in den Böden steigt langsam a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Humusanreicherung im Boden ist reversibel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→ Humusabbau führt zur CO</a:t>
            </a:r>
            <a:r>
              <a:rPr b="0" lang="de-DE" sz="2200" spc="-1" strike="noStrike" baseline="-30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-Freisetz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für ein nachhaltiges Humusmanagement ist die Zufuhr von organischer Substanz von zentraler Bedeut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Textfeld 3"/>
          <p:cNvSpPr/>
          <p:nvPr/>
        </p:nvSpPr>
        <p:spPr>
          <a:xfrm>
            <a:off x="5580000" y="6308640"/>
            <a:ext cx="3095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KTBL (2017): Klimaschutz in der Landwirtschaft. Emissionsminderung in der Praxis. KTBL-Heft 119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haltung der Bodenfruchtbar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ine wichtige Möglichkeit die Bodenfruchtbarkeit zu erhalten ist der Anbau von Zwischenfrüchten/Mischungen, daraus ergeben sich beispielhafte Vorteile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leich hohe oder höhere Biomasse und Wurzelerträ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ehr und vielfältigere Wurzelausscheidungen, dadurch mehr Humusbildung und mikrobielle Aktivitä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ährstoffmobilisier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ffizientere Nutzung von Licht, Wasser und Nährstoff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krautunterdrück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eniger Nährstoffverluste durch Erosion und Auswasch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Textfeld 3"/>
          <p:cNvSpPr/>
          <p:nvPr/>
        </p:nvSpPr>
        <p:spPr>
          <a:xfrm>
            <a:off x="5867280" y="6308640"/>
            <a:ext cx="280836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op agrar (2011): Bodenfruchtbarkeit – was ist das? Ackerbau – Ausgabe 07/2011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rundsätze der Guten fachlichen Praxis n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§ 17 Abs. 2 BBodSc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8120" y="2133360"/>
            <a:ext cx="82677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bearbeitung unter Berücksichtigung der Witterung hat grundsätzlich standortangepasst zu erfol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struktur soll erhalten/verbessert wer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verdichtung so weit wie möglich vermei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abträge möglichst vermeiden (standortangepasste Nutzung, Hangneigung, Wasser- und Windverhältnisse berücksichtig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Hecken, Feldgehölze, Feldraine und Ackerterrassen, die zum Schutz des Bodens notwendig sind, müssen erhalten wer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iologische Aktivität des Bodens durch entsprechende Fruchtfolgegestaltung erhalten und förder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standorttypischen Humusgehalt erhal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öden in Sach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öden der Altmoränenlandschaf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öden der Löss- und Sandlösslandschaf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öden der Berg- und Hügelländ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öden der überregionalen Flusslandschaf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Nähere Informationen sind dem dazugehörigem Handout zu entnehm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öden in Sach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5616720" cy="425916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typen - Standorthauptgru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Bodenarten ergeben sich aus den Anteilen der mineralischen Bestandteile mit unterschiedlichen Korngrößen: Sie werden unterteilt in Sand, Schluff und Ton. „Lehm“ ist ein Gemisch aus diesen Bestandteile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Bodenart bestimmt die Bodenstruktur und damit die Eigenschaften des Wasser- und Nährstoffhaushaltes der Böden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ar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349360"/>
          <a:ext cx="8209080" cy="251316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  <a:gridCol w="2736720"/>
              </a:tblGrid>
              <a:tr h="41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ngröß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chreibu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 0,002 m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hr feinkörni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chluff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 – 0,063 m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inkörni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,063 – 2 m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ittelkörnig 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Kie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 – 63 m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obkörnig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ein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gt; 63 m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hr grobkörni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öglichkeiten die Bodenart zu best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Fingerprobe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zur Bestimmung der Bodenar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probe zwischen den Handflächen zu einer etwas bleistiftdicken Wurst ausroll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Calibri"/>
              </a:rPr>
              <a:t>→</a:t>
            </a: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Probe ist nicht ausrollbar = 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Sandbodenar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Calibri"/>
              </a:rPr>
              <a:t>→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Probe ist ausrollbar = 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sandige Lehme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und 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Ton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öglichkeiten die Bodenart zu best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8120" y="1844640"/>
            <a:ext cx="82677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Krümeltest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(ist ungenauer) zur Bestimmung der Bodenar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probe (nicht zu nass und nicht zu trocken) in der Hand kurz zusammenpressen, dann die Hand öffn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3068640"/>
          <a:ext cx="7632720" cy="3244680"/>
        </p:xfrm>
        <a:graphic>
          <a:graphicData uri="http://schemas.openxmlformats.org/drawingml/2006/table">
            <a:tbl>
              <a:tblPr/>
              <a:tblGrid>
                <a:gridCol w="3528720"/>
                <a:gridCol w="2159280"/>
                <a:gridCol w="1944720"/>
              </a:tblGrid>
              <a:tr h="941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passiert beim Krümeltest?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il der Feinerde [%]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444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oden rieselt durch die Finger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 – 5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oden krümelt und bröckelt durch die Finger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 – 4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eh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oden ist formbar, einzelne Risse beim Zusammenbacke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0 – 5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chwerer Leh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oden ist zu Würsten modellierbar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iner T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öglichkeiten die Bodenart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Schlämmprobe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gesiebte Bodenprobe (</a:t>
            </a:r>
            <a:r>
              <a:rPr b="0" lang="de-DE" sz="2200" spc="-1" strike="noStrike">
                <a:solidFill>
                  <a:srgbClr val="333333"/>
                </a:solidFill>
                <a:latin typeface="Calibri"/>
              </a:rPr>
              <a:t>Ø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&lt; 2 mm) wird in Wasser aufgeschlämmt. Grobe Partikel setzen sich schnell ab, feine Partikel nur langsam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Landwirtschaftliche Vergleichsgebiete in Sachs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fruchtbarkei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 nach dem BBodSch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haltung der Bodenfruchtbarkei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rundsätze der Guten fachlichen Praxis nach § 17 Abs. 2 BBodSch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typen in Sachs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Bodenar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Möglichkeiten die Bodenart zu bestim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öglichkeiten die Bodenart zu best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Schlämmprob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urchführ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1. Bodenprobe im Messzylinder schütteln und mit Wasser auffüll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2. Messzylinder schließen und schüttel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3. Messzylinder abstellen und beobacht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4. Schichtdicken nach 5 / 10 und 20 min mess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Trübung des Wassers wird durch sehr feine Schwebeteilchen verursacht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00b050"/>
                </a:solidFill>
                <a:latin typeface="Arial"/>
              </a:rPr>
              <a:t>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Oberfläch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je nach Anforderung rau bis fei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zelaggregate erkennba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icht verschlämmte Oberfläch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akroporen (Regenwurmgänge) erkennba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egenwurmlos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(Bedeckung mit Mulchmaterial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ff0000"/>
                </a:solidFill>
                <a:latin typeface="Arial"/>
              </a:rPr>
              <a:t>un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Oberfläch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u fein bzw. zu grob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berflächenverschlämmung bzw. Krustenbild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eine Makroporen (Regenwurmgänge) erkennba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icht genügende Bodenbedeckung (z. B. durch Mulchmaterial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00b050"/>
                </a:solidFill>
                <a:latin typeface="Arial"/>
              </a:rPr>
              <a:t>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Ober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rümelgefüge bzw. Mischgefüge aus Krümeln (1 – 10 mm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Ø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) und locker-porösen Bröckeln (&lt; 50 mm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Ø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leichmäßig dichte Feindurchwurzel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Ernterückstände weitgehend abgebaut bzw. in Rott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leichmäßig braune Farb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erdiger Geru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Übergangsbereich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allmählicher Überga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ff0000"/>
                </a:solidFill>
                <a:latin typeface="Arial"/>
              </a:rPr>
              <a:t>un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09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Ober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lumpengefü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scharfkantig, wenig poröse Aggregate (z. B. Polyeder oder Prisme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ungleichmäßige &amp; gestörte Feindurchwurzel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unverrottete &amp; ungleichmäßig verteilte Ernterückstände (z. B. Strohmatratzen) mit Verpilzung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raublaue Verfärbung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fauliger Geru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Übergangsbereich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abrupter Überga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00b050"/>
                </a:solidFill>
                <a:latin typeface="Arial"/>
              </a:rPr>
              <a:t>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Unter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ein Plattengefüge erkennba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lockeres (nicht verdichtetes) Kohärent- (typisch für Lössböden), Einzelkorn- (typisch für Sandböden) oder Aggregatgefü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gestörte Tiefendurchwurzel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ahlreiche vertikal verlaufende Makroporen (Regenwurmgäng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Übersicht – </a:t>
            </a:r>
            <a:r>
              <a:rPr b="1" lang="de-DE" sz="2600" spc="-1" strike="noStrike">
                <a:solidFill>
                  <a:srgbClr val="ff0000"/>
                </a:solidFill>
                <a:latin typeface="Arial"/>
              </a:rPr>
              <a:t>ungüns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truktur des Bod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Unter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lattengefüge erkennba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dichtetes Kohärent- (typisch für Lössböden), Einzelkorn- (typisch für Sandböden) oder Aggregatgefü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störte Tiefendurchwurzel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enige bzw. keine vertikal verlaufende Makroporen (Regenwurmgäng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feld 3"/>
          <p:cNvSpPr/>
          <p:nvPr/>
        </p:nvSpPr>
        <p:spPr>
          <a:xfrm>
            <a:off x="7236000" y="6165720"/>
            <a:ext cx="1512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gefügeschu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26880" indent="-326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as Bodengefüge (Bodenstruktur) ist die räumliche Anordnung der festen Bodenbestandtei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enge und Form der Poren werden bestimm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oren sind abwechselnd mit Wasser oder Luft gefüll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hängigkeit der Struktur u. a. von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a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enge &amp; Art der organischen Substanz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iologische Aktivitä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orm der Bodenbearbeit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lastung durch aufliegende Bodenschichten &amp; Maschin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29440" indent="-337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asserhaushal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deutung &amp; Funktion des Bodengefü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peichert Wasser &amp; Nährstoffe für Pflanz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ichert den Fluss von Wasser &amp; Nährstoffen im Bo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sorgt die Pflanzenwurzeln mit Sauerstoff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st Lebensraum für das Bodenleben (z. B. Regenwürmer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trägt die landwirtschaftlichen Maschin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e im Bodengefüge durch die landwirtschaftliche Bearbeitu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234936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jedes Bodengefüge hat eine gewisse Stabilität gegenüber mechanischer Belast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ringe Belastung → Boden reagiert elastisch und nimmt nach der Belastung seine Ausgangsform a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ohe / starke Belastung → plastische Verformung des Bodens (man kann die Radspuren sehen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andwirtschaftliche Vergleichsgebiete in Sachs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Landwirtschaft, deren Strukturen und die wirtschaftlichen Bedingungen werden zu einem großen Teil von den natürlichen Standortfaktoren bestimmt. So sind die 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Bodeneigenschaften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, das 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Klima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und das 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Relief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entscheidende Faktoren für die Ausbildung von Produktionsverfahren und bestimmen maßgeblich die Anbaustruktur sowie die Ertragsfähigkeit und somit die Wirtschaftlichkeit der Standorte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Textfeld 5"/>
          <p:cNvSpPr/>
          <p:nvPr/>
        </p:nvSpPr>
        <p:spPr>
          <a:xfrm>
            <a:off x="6372360" y="6296040"/>
            <a:ext cx="230328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ächsisches Landesamt für Umwelt, Geologie und Landwirtschaft (LfULG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e im Bodengefüge durch die landwirtschaftliche Bearbeitu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verdich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ntsteht durch Kontaktflächendruck durch Maschinen, resultierend aus Radlast(en) und Reifenauflagefläche(n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fgrund starker Belastung werden Poren zusammengedrückt &amp; Bodenpartikel enger zusammengepack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oren werden unterbrochen und so auch der Wasserfluss behinde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orenvolumen des Bodens wird gerin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chte des Bodens erhöht si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ückverdichtung zur Herstellung von Bodenschluss bei der Sattbettbereitung ist erwünsch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e im Bodengefüge durch die landwirtschaftliche Bearbeitu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scher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ntsteht durch Reifenschlupf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körper wird seitlich in sich verschoben, dadurch verändern sich die Porenfor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urchgängigkeit von Poren kann zerstört wer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Lagerungsdichte des Bodens bleibt davon unberühr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füge wird instabiler und anfälliger für Verdicht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e im Bodengefüge durch die landwirtschaftliche Bearbeitu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schadverdich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orensystem ist soweit verformt, dass die Versorgung der Pflanzen mit Luft, Wasser &amp; Nährstoffen dauerhaft beeinträchtigt 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fährdung besteht v. a. für den Unterboden von Acker- &amp; Grünland, da hier Gefügeschäden i.d.R. nicht durch Bodenbearbeitung behoben werden könn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eistens wirken Verdichtung &amp; Scherung zusamm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Ursachen von Bodenbelas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s besteht eine Abhängigkeit zwischen den Bodeneigenschaften und der mechanischen Belastung bei der landwirtschaftlichen Nutz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olgen von Bodenbelas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urzelwachstum wird gehemm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nahme von Porenvolumen führen zu einer Abnahme der Leitfähigkeit für Wasser &amp; Luf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s kann Sauerstoffmangel oder Vernässung verursach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tragseinbuß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tarke Einschränkung der Befahrbarkeit des Bodens durch Vernäss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Nährstoffverluste, dass die Pflanzen weniger Nährstoffe dem Boden entziehen könn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auerstoffmangel ist lebensfeindlich für die Bodenorganism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olgen von Bodenbelas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auerstoffmangel geht mit einem Rückgang der biologischen Aktivität einher → Nährstoffe werden dadurch schlechter fixiert oder pflanzenverfügbar gemacht → Nährstoffauswaschung &amp; Gefährdung von Grund- &amp; Oberflächenwasser können resultier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auerstoffmangel führt zu 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Denitrifikation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&amp; Fäulni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sgasung von Stickstoffdioxid (Lachgas) und Fäulnisgasen treibt den Klimawandel vora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ringerte Wasserleitfähigkeit des Bodens erhöht den Oberflächenabfluss (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rosionsgefahr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) und vermindert die Grundwasserneubild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lche Bodeneigenschaften beeinflussen die mechanische Belastung des Bode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feuchte (Bf)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erabsetzen der Stabilität des Bodengefüges (bei hoher Bf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asser in den Poren fördert die Bodenverform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fahren / Bearbeiten nasser Böden ist eine der Hauptursachen für Bodenschadverdicht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art &amp; Anteil an organsicher Substanz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s besteht eine große Beeinflussung auf das Bodengefü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Aggregierungsvermöge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Quellungs- &amp; Schrumpfungsvermöge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Verdichtungs-  &amp; Wiederauflockerungsvermög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lche Bodeneigenschaften beeinflussen die mechanische Belastung des Bode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234936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Bodengefüg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feuchteabhängige Stabilität des Bodengefüges entscheidet über die elastische Druckkompensationsfähigke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Druckstabilität ist neben der Feuchte von der Vorverdichtung und dem Scherwiderstand abhängi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echanische Belastung des Bod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98900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adlast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ohe Radlast bei kleiner Reifenauflagefläche führt zu hohem Bodendruck und hoher Tiefenwirkung des Druck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Kontaktfläch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leine Kontaktfläche bei großer Last verursacht einen hohen Flächendruc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eifeninnendruck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oher Reifeninnendruck befördert eine ungleichmäßige Lastabstützung bei kleiner Aufstandsfläch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echanische Belastung des Bod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989000"/>
            <a:ext cx="8267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Überrollhäufigkeit &amp; Belastungsdau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äufiges Überrollen und lange Belastungen erhöhen das Verformungsrisiko des Bod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ach Möglichkeit jedes Jahr die selben Fahrgassen wiederbenutz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i der Ernte mit vollem Anhänger möglichst nicht quer über den Acker fahren, sondern in den Fahrgass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eifenschlupf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rehung des Reifens ist schneller als die Fahrgeschwindigkei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wirkt v. a. Scherung des Boden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eifenstoll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65440" indent="-3520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günstigen Scherung an der Bodenoberfläch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7760" y="437760"/>
            <a:ext cx="831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andwirtschaftliche Vergleichsgebiete in Sachs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nhaltsplatzhalter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4688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schutz – Vorsorgemaßnahmen im Bereich der Techn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989000"/>
            <a:ext cx="8267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adlast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ringerung des Leer- / Ladungsgewicht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höhung der Achsenanzah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Hundegang“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Kontaktfläche (Reifenaufstandsfläche)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satz von Breit- / Terrareifen, Zwillingsreifen, Kettenlaufwerk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eifeninnendruck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eifendruckregelanlag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eringerer Reifeninnendruck bei gut verformbaren Reifen vergrößert die Auflagefläche und reduziert den Bodendruck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schutz – Vorsorgemaßnahmen im Bereich der Techn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89000"/>
            <a:ext cx="8267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Schlupf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llradantrieb, Differenzialsperren, große Kontaktfläch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ptimale Ballastierung verringert das Schlupfrisik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e effiziente Zugkraftübertragung hilft Schlupf zu reduzieren, </a:t>
            </a:r>
            <a:br>
              <a:rPr sz="2000"/>
            </a:b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. B. Zapfwellengetriebene Anbaugeräte verringern den Zugkraftbedarf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Reifenstoll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Grünlandreifen helfen die Grasnarbe zu schon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i trockenen Bedingungen auch auf dem Feld, z. B. als Zugfahrzeug beim Überladewagen einsetzba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schutz – Vorsorgemaßnahmen im Bereich der Arbeitsverfah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3"/>
          <p:cNvSpPr/>
          <p:nvPr/>
        </p:nvSpPr>
        <p:spPr>
          <a:xfrm>
            <a:off x="6948360" y="6308640"/>
            <a:ext cx="187164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LfULG (2004): Bodenschutz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1989000"/>
            <a:ext cx="8267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Fahrgassensysteme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Lasteneinträge auf Teilbereiche begrenz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reite Fahrgassen mit bodenschonenden Reif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GPS-gestützte Parallelfahreinrichtung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mal festgelegte Fahrgassen jedes Jahr neu benutz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konservierende Bodenbearbeit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eine Pflugsoh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tabilität des Bodengefüges wird allgemein verbesse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echanische Belastungen können besser aufgefangen wer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Onlandpflüg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ont den Unterbo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fruchtbar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i="1" lang="de-DE" sz="2200" spc="-1" strike="noStrike">
                <a:solidFill>
                  <a:srgbClr val="333333"/>
                </a:solidFill>
                <a:latin typeface="Arial"/>
              </a:rPr>
              <a:t>Immer und zu allen Zeiten ist es der Boden mit seiner Fruchtbarkeit gewesen, der über das wohl und Wehe eines Volkes entschieden hat.“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Justus von Liebi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*1803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†1873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undes-Bodenschutzgesetz (BBodSch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Gesetz vom 17.03.1998, zuletzt geändert 31.08.2015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oden = oberste Schicht der Erdkruste, einschließlich der flüssigen und gasförmigen Bestandteile, ohne Grundwass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oden muss nach dem Gesetz folgende Funktionen erfülle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300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Lebensraum für Menschen, Tiere, Pflanzen, Bodenorganism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300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Bestandteil des Naturhaushalts, insbesondere mit seinen Wasser- und Nährstoffkreisläuf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300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Abbau-, Ausgleichs- und Aufbaumedium für stoffliche Einwirkungen auf Grund der Filter-, Puffer- und Stoffumwandlungseigenschaften, insbesondere zum Schutz des Grundwasser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300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Standort für die Land- und Forstwirtschaftliche Nutzu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undes-Bodenschutzgesetz (BBodSch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nforderungen zum Schutz des Bodens, diese zielen vorwiegend auf 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utz vor Wassereros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utz vor Winderos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utz des Bodengefüg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§ 4 Pflichten zur Gefahrenabweh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ädliche Bodenveränderungen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nicht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 auslös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aßnahmen gegen schädliche Bodenveränderungen ergreif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§ 17 Gute fachliche Praxis in der Landwirtschaf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achhaltige Sicherung der Bodenfruchtbarke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fruchtbarke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= ein komplexer Ausdruck für alle das Pflanzenwachstum bzw. die Biomasseproduktion beeinflussenden mineralogischen, physikalischen, chemischen und biologischen Bodeneigenschaften und Prozess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st ein Maß für die Effektivität der Wirkung der übrigen Wachstumsfaktoren am Wuchsstandort einer Pflanze, wie Relief, Klima, Wasser und aller acker- und pflanzenbaulicher Maßnah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Bodenfruchtbarkeit wird am Ertrag gemess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Textfeld 3"/>
          <p:cNvSpPr/>
          <p:nvPr/>
        </p:nvSpPr>
        <p:spPr>
          <a:xfrm>
            <a:off x="6012000" y="6372360"/>
            <a:ext cx="2881080" cy="3985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op agrar (2011): Bodenfruchtbarkeit – was ist das? Ackerbau – Ausgabe 07/2011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denfruchtbar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llgemein zeichnen sich fruchtbare Böden durch ein reichhaltiges Vorkommen an… aus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rganischer Substanz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17T12:00:38Z</dcterms:modified>
  <cp:revision>103</cp:revision>
  <dc:subject/>
  <dc:title>Ohne Zweitlogo: Titel der Präsentation Arial 26</dc:title>
</cp:coreProperties>
</file>