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12" descr="SMUL_001_O_RGB"/>
          <p:cNvPicPr/>
          <p:nvPr/>
        </p:nvPicPr>
        <p:blipFill>
          <a:blip r:embed="rId2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  <p:sp>
        <p:nvSpPr>
          <p:cNvPr id="3" name="Foliennummernplatzhalter 1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37AD-686C-4855-9E57-8B5EFD5C6B25}" type="slidenum">
              <a:rPr b="0" lang="de-DE" sz="12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Textplatzhalter 4"/>
          <p:cNvSpPr/>
          <p:nvPr/>
        </p:nvSpPr>
        <p:spPr>
          <a:xfrm>
            <a:off x="539640" y="6453360"/>
            <a:ext cx="81662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28480"/>
                </a:solidFill>
                <a:latin typeface="Arial"/>
              </a:rPr>
              <a:t>| Umgang mit Klimaextremen – Folgen auf Betriebsebene | </a:t>
            </a:r>
            <a:r>
              <a:rPr b="0" lang="en-US" sz="1200" spc="-1" strike="noStrike">
                <a:solidFill>
                  <a:srgbClr val="006333"/>
                </a:solidFill>
                <a:latin typeface="Arial"/>
              </a:rPr>
              <a:t>Innerbetriebliche Risikomanagementinstrumen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SMUL_001_O_RGB"/>
          <p:cNvPicPr/>
          <p:nvPr/>
        </p:nvPicPr>
        <p:blipFill>
          <a:blip r:embed="rId2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  <p:sp>
        <p:nvSpPr>
          <p:cNvPr id="42" name="Foliennummernplatzhalter 1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7DC4-42D5-47ED-8B36-582BE9BACE2B}" type="slidenum">
              <a:rPr b="0" lang="de-DE" sz="12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Textplatzhalter 4"/>
          <p:cNvSpPr/>
          <p:nvPr/>
        </p:nvSpPr>
        <p:spPr>
          <a:xfrm>
            <a:off x="539640" y="6453360"/>
            <a:ext cx="6264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28480"/>
                </a:solidFill>
                <a:latin typeface="Arial"/>
              </a:rPr>
              <a:t>| XX. Monat 2016 | </a:t>
            </a:r>
            <a:r>
              <a:rPr b="0" lang="de-DE" sz="1200" spc="-1" strike="noStrike">
                <a:solidFill>
                  <a:srgbClr val="006333"/>
                </a:solidFill>
                <a:latin typeface="Arial"/>
              </a:rPr>
              <a:t>Name des Präsentato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6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Anpassungsmöglichkeiten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innerbetriebliche Risikomanagementinstrumente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außerbetriebliche Risikomanagementinstrumente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 (+) und Nachteile (-) verschiedener außerbetrieblicher Managementinstrumente für Wetterris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feld 1"/>
          <p:cNvSpPr/>
          <p:nvPr/>
        </p:nvSpPr>
        <p:spPr>
          <a:xfrm>
            <a:off x="6948360" y="5877000"/>
            <a:ext cx="1944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Thünen Report 30 (2015) Johann Heinrich von Thünen-Institut (Hrsg.)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rcRect l="5994" t="19013" r="59780" b="32696"/>
          <a:stretch/>
        </p:blipFill>
        <p:spPr>
          <a:xfrm>
            <a:off x="933480" y="1800360"/>
            <a:ext cx="680724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iabilität der regionalen Weizenerträge (1995 –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feld 1"/>
          <p:cNvSpPr/>
          <p:nvPr/>
        </p:nvSpPr>
        <p:spPr>
          <a:xfrm>
            <a:off x="6948360" y="5877000"/>
            <a:ext cx="1944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Thünen Report 30 (2015) Johann Heinrich von Thünen-Institut (Hrsg.)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5994" t="33361" r="59430" b="18345"/>
          <a:stretch/>
        </p:blipFill>
        <p:spPr>
          <a:xfrm>
            <a:off x="1125360" y="1843200"/>
            <a:ext cx="680904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triebliche Fakto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diese Faktoren beeinflussen neben den klimabedingten Auswirkungen in starkem Maße die Variabilität der Erträge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triebsgröß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ewirtschaftungsform (konventionell / ökologisch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Möglichkeit der Bewässerung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npassungsmöglichkei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37760" y="2381040"/>
            <a:ext cx="40575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ex-ante – </a:t>
            </a: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Maßnahmen = Schwankungen des unternehmerischen Erfolges durch vorgelagerte Maßnahmen zu reduziere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7960" y="2381040"/>
            <a:ext cx="40575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ex-post - </a:t>
            </a: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Maßnahmen = Umgang mit akuten Problemen nach eingetretenem Schadensfall, z.B. Aufnahme von Notkredite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isiko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von Risikomanagement spricht man, wenn es um die Wahl zwischen Alternativen geht, bei denen ein Trade-off zwischen höherem Einkommen und weniger Risiko besteht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s wird unterstellt, dass die eindeutig unterlegenen Handlungsalternativen bereits aussortiert sin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jede Form der Risikoreduzierung kostet Gel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nerbetriebliche Risikomanagementinstru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Maßnahmen, mit denen man versucht die Schwankungen von erfolgsbeeinflussenden Zufallsgrößen (z. B. Kosten, Erträge) zu verringer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z. B. Anschaffung eines größeren Mähdreschers, der in normalen Jahren überdimensioniert ist, in Extremjahren aber durch schlechtes Wetter mit wenigen Erntetagen die Ernteverluste reduzieren kan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Textfeld 1"/>
          <p:cNvSpPr/>
          <p:nvPr/>
        </p:nvSpPr>
        <p:spPr>
          <a:xfrm>
            <a:off x="6948360" y="5877000"/>
            <a:ext cx="1944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Thünen Report 30 (2015) Johann Heinrich von Thünen-Institut (Hrsg.)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nerbetriebliche Risikomanagementinstru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alle Instrumente, mit denen man Unsicherheitsgrößen, deren Schwankungen nicht genau gleichgerichtet oder sogar entgegengesetzt gerichtet sind, so kombiniert, dass der unternehmerische Erfolg stabilisiert wird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verschiedene Diversifizierungsmaßnahmen, z. B. Kombination von Marktpartner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Textfeld 1"/>
          <p:cNvSpPr/>
          <p:nvPr/>
        </p:nvSpPr>
        <p:spPr>
          <a:xfrm>
            <a:off x="6948360" y="5877000"/>
            <a:ext cx="1944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Thünen Report 30 (2015) Johann Heinrich von Thünen-Institut (Hrsg.)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nerbetriebliche Risikomanagementinstru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Bildung eines Sicherheitspuffer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Bildung von Reserven, die einem das Überleben in schlechten Zeiten erleichter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Textfeld 1"/>
          <p:cNvSpPr/>
          <p:nvPr/>
        </p:nvSpPr>
        <p:spPr>
          <a:xfrm>
            <a:off x="6948360" y="5877000"/>
            <a:ext cx="1944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Thünen Report 30 (2015) Johann Heinrich von Thünen-Institut (Hrsg.)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ußerbetriebliche Risikomanagementinstru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Durch Natur- und Klimagebundenheit der Produktion sind in der Landwirtschaft schwankende Erträge ein unternehmerisches Risiko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zur Reduzierung können Versicherungen eingesetzt werd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Schadensbezogene Versicherunge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333333"/>
                </a:solidFill>
                <a:latin typeface="Arial"/>
              </a:rPr>
              <a:t>Unterteilung in Extremwetter- &amp; Ertragsversicherungen (z. B. Hagelversicherung)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Indexbezogene Versicherunge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333333"/>
                </a:solidFill>
                <a:latin typeface="Arial"/>
              </a:rPr>
              <a:t>Unterteilung in Regionsindex- &amp; Wetterindexversicherungen 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feld 1"/>
          <p:cNvSpPr/>
          <p:nvPr/>
        </p:nvSpPr>
        <p:spPr>
          <a:xfrm>
            <a:off x="6948360" y="5877000"/>
            <a:ext cx="1944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Thünen Report 30 (2015) Johann Heinrich von Thünen-Institut (Hrsg.)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ußerbetriebliche Risikomanagementinstru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Extremwetterversicherung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s lassen sich nur Schäden von spezifischen Ereignissen versicher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unspezifische Ernteschäden, wie z. B. zu wenig Niederschlag und damit verbundene Ernteausfälle bleiben ein relevantes Risik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Ertragsversicherungen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Entschädigung, wenn der erzielte Ertrag unter dem Normertrag bleib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Schäden sind unabhängig von ihrer Ursache versicher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Textfeld 1"/>
          <p:cNvSpPr/>
          <p:nvPr/>
        </p:nvSpPr>
        <p:spPr>
          <a:xfrm>
            <a:off x="6948360" y="5877000"/>
            <a:ext cx="1944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Thünen Report 30 (2015) Johann Heinrich von Thünen-Institut (Hrsg.)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ußerbetriebliche Risikomanagementinstru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Regionsindexversicherung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ie Versicherungszahlung ist an eine außerbetriebliche, objektiv überprüfbare Größe, wie z. B. den regionalen Weizendurchschnittsertrag gekoppel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33"/>
                </a:solidFill>
                <a:latin typeface="Arial"/>
              </a:rPr>
              <a:t>Wetterindexversicherungen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die Versicherungszahlung erfolgt in Abhängigkeit von einer Wettergröße, die an einer festgelegten Wetterstation gemessen wir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6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Arial"/>
              </a:rPr>
              <a:t>man erhält beispielsweise ein Zahlung, wenn die Niederschlagsmenge innerhalb eines bestimmten Zeitraums unterhalb des langjährigen Mittels lieg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Textfeld 1"/>
          <p:cNvSpPr/>
          <p:nvPr/>
        </p:nvSpPr>
        <p:spPr>
          <a:xfrm>
            <a:off x="6948360" y="5877000"/>
            <a:ext cx="1944720" cy="5508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Thünen Report 30 (2015) Johann Heinrich von Thünen-Institut (Hrsg.)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07:10:19Z</dcterms:created>
  <dc:creator>Müller, Tino - LfULG</dc:creator>
  <dc:description/>
  <dc:language>en-US</dc:language>
  <cp:lastModifiedBy>Barbara</cp:lastModifiedBy>
  <dcterms:modified xsi:type="dcterms:W3CDTF">2018-12-31T13:05:16Z</dcterms:modified>
  <cp:revision>98</cp:revision>
  <dc:subject/>
  <dc:title>Ohne Zweitlogo: Titel der Präsentation Arial 26</dc:title>
</cp:coreProperties>
</file>