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3C9-C8CB-471A-9FD8-7AA4A987DD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34F-2F47-4AFF-8918-439DC1AB1C1B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163-2F0C-44C0-8552-470FD962C68C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8480"/>
                </a:solidFill>
                <a:latin typeface="Arial"/>
              </a:rPr>
              <a:t>| Umgang mit Klimaextremen – Folgen auf Betriebsebene | </a:t>
            </a:r>
            <a:r>
              <a:rPr b="0" lang="en-US" sz="1200" spc="-1" strike="noStrike">
                <a:solidFill>
                  <a:srgbClr val="006333"/>
                </a:solidFill>
                <a:latin typeface="Arial"/>
              </a:rPr>
              <a:t>Liquiditätsplanu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E513-E37F-467F-9AB5-DA13B0CFE08C}" type="slidenum">
              <a:rPr b="0" lang="en-US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8" descr="Titelgrafik - LfULG"/>
          <p:cNvPicPr/>
          <p:nvPr/>
        </p:nvPicPr>
        <p:blipFill>
          <a:blip r:embed="rId1"/>
          <a:srcRect l="1555" t="0" r="1777" b="0"/>
          <a:stretch/>
        </p:blipFill>
        <p:spPr>
          <a:xfrm>
            <a:off x="0" y="1844640"/>
            <a:ext cx="9148680" cy="389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144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38120" y="1579320"/>
            <a:ext cx="66549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8444"/>
                </a:solidFill>
                <a:latin typeface="Arial"/>
              </a:rPr>
              <a:t>Liquiditätsplan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38120" y="980640"/>
            <a:ext cx="84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mgang mit Klimaextremen – Folgen auf Betriebseb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nanzwirtschaftliche Maßnahmen zum Erhalt der Zahlungsfähig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npassung des Kreditlimit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flösung von Festgeldern und Rückalg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echtzeitige Kündigung, um Strafzinsen bei der Auflösung zu vermei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rechtzeitige Umfinanzierung von Kredi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. B. kurzfristige Verbindlichkeiten in langfristige Darlehn umwandel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ssetzung der Tilg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it der Hausbank abstimmen und auf deren Unterstützung hoff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feld 3"/>
          <p:cNvSpPr/>
          <p:nvPr/>
        </p:nvSpPr>
        <p:spPr>
          <a:xfrm>
            <a:off x="7308720" y="580860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Liquiditätsplan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orausschauende Plan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Liquidität erhalten und sicher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Erstellung einer Liquiditätsvorschau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orteile der vorausschauenden Liquiditätsplanu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ichtige Sofortmaßnahmen im Ernstfal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Finanzwirtschaftliche Maßnahmen zum Erhalt der Zahlungsfähigkei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quiditätspla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Zahlungsfähigkeit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des Betriebes ist das </a:t>
            </a: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wichtigste Instrument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des Risikomanagement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Ziel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Wettbewerbsfähigkeit langfristig sicher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Ausgangslage: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reisschwankungen an den Märkten führen zu immer mehr schwankenden Einkom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nvestitionssummen steigen i.d.R. und müssen meist über Fremdkapital finanziert werden → regelmäßiger Kapitaldienst notwendi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Gefahr: 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sinkende Preise für Agrarprodukte treffen </a:t>
            </a:r>
            <a:br>
              <a:rPr sz="2200"/>
            </a:b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f steigende Betriebsmittelkos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rausschauende Planu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strategisches Finanz- &amp; Liquiditätsmanageme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wichtig: </a:t>
            </a: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ealistische Ermittlung des Kapitalbedarf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33"/>
                </a:solidFill>
                <a:latin typeface="Arial"/>
              </a:rPr>
              <a:t>Zentrale Frage: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Wann und warum kann die Liquidität im Betrieb knapp werde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ist diese Frage beantwortet, kann entschieden werden, wie und auf welche Art und Weise Kapital beschafft wir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iele Wachstumschancen können nur ergriffen werden, wenn zu einem bestimmten Zeitpunkt ausreichend Kapital vorhanden is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quidität erhalten und sich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etriebsintern sollten die Zahlungsströme analysiert und der Kapitalbedarf ermittelt werden → Erkenntnisse auch der Hausbank mitteil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Zahlungsströme / Kapitalbedarf sollte immer analysiert werden, auch wenn aktuell kein Finanzierungsbedarf besteh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aßnahmen zur Vorsorge im Ernstfall dokumentieren und berücksichtig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stellung einer Liquiditätsvorsch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1. alle Einnahmen und Ausgaben gegenüberstellen und dem jeweiligen Zeitpunkt zuordn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2. nur tatsächlich anfallende Zahlungen berücksichtigen (Abschreibungen spielen keine Rolle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3. alle Darlehen mit Zins- &amp; Tilgungsverpflichtungen &amp; Privatentnahmen sind zu berücksichtig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4. aus der Summe der Überschüsse / Fehlbeträge im Betrachtungszeitraum (z. B. 1 Monat) ergibt sich die aktuelle Liquidität des Betrieb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stellung einer Liquiditätsvorsch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5. Blick in die Zukunft → Einnahmen / Ausgaben der nächsten Monate prognostizier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realistische Schätzwerte unterstellen (Ableitung aus den letzten Buchführungsabschlüssen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pessimistisches Szenario simulieren und dessen Auswirkungen auf die Liquidität des Betriebes beurteilen / bewerte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8444"/>
                </a:solidFill>
                <a:latin typeface="Arial"/>
              </a:rPr>
              <a:t>Vorteil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der vorausschauenden Liquiditätspla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arstellung konstanter &amp; unregelmäßiger Zahlungsströ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bbildung gleichförmiger bzw. saisonal schwankender Zahlungsverläuf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Geldüberschüsse und Fehlbeträge können im Vorfeld abgebildet wer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 vorhandenen Risiken können frühzeitig erkannt werden und Maßnahmen zur Stabilisierung können eingeleitet werd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chtige Sofortmaßnahmen im Ernst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m Bedarfsfall mit der Hausbank mögliche Maßnahmen zur kurzfristigen Liquiditätsunterstützung auswählen → finanzielle Engpässe überbrück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Hausbank über die aktuelle wirtschaftliche Lage informier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Überblick über die finanzielle Situation verschaffen → </a:t>
            </a:r>
            <a:r>
              <a:rPr b="0" lang="de-DE" sz="2200" spc="-1" strike="noStrike" u="sng">
                <a:solidFill>
                  <a:srgbClr val="333333"/>
                </a:solidFill>
                <a:uFillTx/>
                <a:latin typeface="Arial"/>
              </a:rPr>
              <a:t>Quellen: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 z. B. aktueller Jahresabschluss, Aufstellung der Finanz- &amp; Darlehenskost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Liquiditätsplan anfertig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Textfeld 3"/>
          <p:cNvSpPr/>
          <p:nvPr/>
        </p:nvSpPr>
        <p:spPr>
          <a:xfrm>
            <a:off x="7308720" y="5616720"/>
            <a:ext cx="1368720" cy="85536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RENTRUP, HEYDER &amp; THEUVSEN (2011): Risikomanagement in der Landwirtschaft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31T12:02:20Z</dcterms:modified>
  <cp:revision>154</cp:revision>
  <dc:subject/>
  <dc:title>Ohne Zweitlogo: Titel der Präsentation Arial 26</dc:title>
</cp:coreProperties>
</file>