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35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89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81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35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89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38120" y="437760"/>
            <a:ext cx="665496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35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89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381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35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89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38120" y="437760"/>
            <a:ext cx="665496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3" marL="1969920" indent="-35532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4" marL="2517840" indent="-3682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5" marL="2517840" indent="-368280">
              <a:spcBef>
                <a:spcPts val="60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6" marL="2517840" indent="-368280">
              <a:spcBef>
                <a:spcPts val="60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12" descr="SMUL_001_O_RGB"/>
          <p:cNvPicPr/>
          <p:nvPr/>
        </p:nvPicPr>
        <p:blipFill>
          <a:blip r:embed="rId2"/>
          <a:stretch/>
        </p:blipFill>
        <p:spPr>
          <a:xfrm>
            <a:off x="5078520" y="404640"/>
            <a:ext cx="3627360" cy="505080"/>
          </a:xfrm>
          <a:prstGeom prst="rect">
            <a:avLst/>
          </a:prstGeom>
          <a:ln w="0">
            <a:noFill/>
          </a:ln>
        </p:spPr>
      </p:pic>
      <p:sp>
        <p:nvSpPr>
          <p:cNvPr id="3" name="Foliennummernplatzhalter 1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E861-841F-44EA-BBAD-94A49F072C8D}" type="slidenum">
              <a:rPr b="0" lang="en-US" sz="1200" spc="-1" strike="noStrike">
                <a:solidFill>
                  <a:srgbClr val="8284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Textplatzhalter 4"/>
          <p:cNvSpPr/>
          <p:nvPr/>
        </p:nvSpPr>
        <p:spPr>
          <a:xfrm>
            <a:off x="539640" y="6453360"/>
            <a:ext cx="81662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28480"/>
                </a:solidFill>
                <a:latin typeface="Arial"/>
              </a:rPr>
              <a:t>| Umgang mit Klimaextremen – Folgen auf Betriebsebene | </a:t>
            </a:r>
            <a:r>
              <a:rPr b="0" lang="en-US" sz="1200" spc="-1" strike="noStrike">
                <a:solidFill>
                  <a:srgbClr val="006333"/>
                </a:solidFill>
                <a:latin typeface="Arial"/>
              </a:rPr>
              <a:t>Innerbetriebliche Risikomanagementinstrumen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SMUL_001_O_RGB"/>
          <p:cNvPicPr/>
          <p:nvPr/>
        </p:nvPicPr>
        <p:blipFill>
          <a:blip r:embed="rId2"/>
          <a:stretch/>
        </p:blipFill>
        <p:spPr>
          <a:xfrm>
            <a:off x="5078520" y="404640"/>
            <a:ext cx="3627360" cy="505080"/>
          </a:xfrm>
          <a:prstGeom prst="rect">
            <a:avLst/>
          </a:prstGeom>
          <a:ln w="0">
            <a:noFill/>
          </a:ln>
        </p:spPr>
      </p:pic>
      <p:sp>
        <p:nvSpPr>
          <p:cNvPr id="42" name="Foliennummernplatzhalter 1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1C5B-8994-421D-8CED-997594E8B43E}" type="slidenum">
              <a:rPr b="0" lang="en-US" sz="1200" spc="-1" strike="noStrike">
                <a:solidFill>
                  <a:srgbClr val="8284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Textplatzhalter 4"/>
          <p:cNvSpPr/>
          <p:nvPr/>
        </p:nvSpPr>
        <p:spPr>
          <a:xfrm>
            <a:off x="539640" y="6453360"/>
            <a:ext cx="6264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28480"/>
                </a:solidFill>
                <a:latin typeface="Arial"/>
              </a:rPr>
              <a:t>| XX. Monat 2016 | </a:t>
            </a:r>
            <a:r>
              <a:rPr b="0" lang="de-DE" sz="1200" spc="-1" strike="noStrike">
                <a:solidFill>
                  <a:srgbClr val="006333"/>
                </a:solidFill>
                <a:latin typeface="Arial"/>
              </a:rPr>
              <a:t>Name des Präsentato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3" marL="1969920" indent="-35532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4" marL="2517840" indent="-3682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5" marL="2517840" indent="-368280">
              <a:spcBef>
                <a:spcPts val="60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6" marL="2517840" indent="-368280">
              <a:spcBef>
                <a:spcPts val="60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passungsoptionen – Agronomische Maßnahm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feld 1"/>
          <p:cNvSpPr/>
          <p:nvPr/>
        </p:nvSpPr>
        <p:spPr>
          <a:xfrm>
            <a:off x="6948360" y="5877000"/>
            <a:ext cx="1944720" cy="55080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Thünen Report 30 (2015) Johann Heinrich von Thünen-Institut (Hrsg.)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33"/>
                </a:solidFill>
                <a:latin typeface="Arial"/>
              </a:rPr>
              <a:t>Vermeidung von Kahlfrostschäden </a:t>
            </a: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→ Anbau von winterhärteren Sorten / Kulturen (z. B. Roggen)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33"/>
                </a:solidFill>
                <a:latin typeface="Arial"/>
              </a:rPr>
              <a:t>optimale Düngerwirkung im Frühjahr </a:t>
            </a: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→ Flexibilität bezüglich des Düngezeitpunkts im Betrieb herstellen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eine verlässliche mittelfristige (wochenweise) Wettervorhersage ist dazu unerlässlich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33"/>
                </a:solidFill>
                <a:latin typeface="Arial"/>
              </a:rPr>
              <a:t>Hitzestress → </a:t>
            </a: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Verwendung früherer Sorten, Gefahr des Hitzestresses wird verringert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33"/>
                </a:solidFill>
                <a:latin typeface="Arial"/>
              </a:rPr>
              <a:t>Trockenstress </a:t>
            </a: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→ wassersparende und standortangepasste Bodenbearbeitung (z. B. pfluglos)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passungsoptionen – Wasser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feld 1"/>
          <p:cNvSpPr/>
          <p:nvPr/>
        </p:nvSpPr>
        <p:spPr>
          <a:xfrm>
            <a:off x="6948360" y="5877000"/>
            <a:ext cx="1944720" cy="55080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Thünen Report 30 (2015) Johann Heinrich von Thünen-Institut (Hrsg.)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33"/>
                </a:solidFill>
                <a:latin typeface="Arial"/>
              </a:rPr>
              <a:t>Wasserknappheit </a:t>
            </a: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ist in Deutschland derzeit nicht gegeben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in Nordostdeutschland ist in der Vegetationsperiode die klimatische Wasserbilanz negativ → Wirtschaftlichkeit kann durch Bewässerung verbessert werde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ca. 3,8 % der landwirtschaftlichen Nutzfläche in Deutschland werden bewässert (vorwiegend Getreide und Kartoffeln, </a:t>
            </a:r>
            <a:r>
              <a:rPr b="0" lang="de-DE" sz="2000" spc="-1" strike="noStrike">
                <a:solidFill>
                  <a:srgbClr val="7f7f7f"/>
                </a:solidFill>
                <a:latin typeface="Arial"/>
              </a:rPr>
              <a:t>Bezugsjahr 2009</a:t>
            </a: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33"/>
                </a:solidFill>
                <a:latin typeface="Arial"/>
              </a:rPr>
              <a:t>„</a:t>
            </a:r>
            <a:r>
              <a:rPr b="1" lang="de-DE" sz="2200" spc="-1" strike="noStrike">
                <a:solidFill>
                  <a:srgbClr val="333333"/>
                </a:solidFill>
                <a:latin typeface="Arial"/>
              </a:rPr>
              <a:t>Wasserüberschuss“ </a:t>
            </a: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→ Entwässerung als Dränung oder Grabenentwässerung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schätzungsweise</a:t>
            </a:r>
            <a:r>
              <a:rPr b="1" lang="de-DE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werden in Deutschland 2-2,6 Mio ha landwirtschaftliche Nutzfläche entwässert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ochwasserbedingte Schäden auf landwirtschaftlichen Flä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feld 1"/>
          <p:cNvSpPr/>
          <p:nvPr/>
        </p:nvSpPr>
        <p:spPr>
          <a:xfrm>
            <a:off x="6948360" y="5877000"/>
            <a:ext cx="1944720" cy="55080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Thünen Report 30 (2015) Johann Heinrich von Thünen-Institut (Hrsg.)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95280" y="206352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30480" indent="-3304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die</a:t>
            </a:r>
            <a:r>
              <a:rPr b="1" lang="de-DE" sz="2200" spc="-1" strike="noStrike">
                <a:solidFill>
                  <a:srgbClr val="333333"/>
                </a:solidFill>
                <a:latin typeface="Arial"/>
              </a:rPr>
              <a:t> möglichen </a:t>
            </a: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Schäden sind vielfältig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0480" indent="-3304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Ernteausfälle und zeitweilige Qualitätsverluste der Produkte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0480" indent="-3304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indirekte Schäden durch Beeinträchtigung des Bodenzustande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838440" indent="-34092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z. B. Schadstoffeinträge (Arsen, Schwermetall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838440" indent="-34092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Abtrag des Oberbodens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838440" indent="-34092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Abtransport und Anlagerung an anderen, unerwünschten Stellen von PSM, Düngern, Saatgu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838440" indent="-34092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Auswaschung von Nährstoffe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838440" indent="-34092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Einspülen unerwünschter Samen auf die Flächen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838440" indent="-34092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Verunreinigung des Bodens, z. B. durch Öl oder Schmutzwasser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838440" indent="-34092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Wertminderung der landwirtschaftlichen Fläche 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ochwasserbedingte Schäden auf landwirtschaftlichen Flä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feld 1"/>
          <p:cNvSpPr/>
          <p:nvPr/>
        </p:nvSpPr>
        <p:spPr>
          <a:xfrm>
            <a:off x="6948360" y="5877000"/>
            <a:ext cx="1944720" cy="55080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Thünen Report 30 (2015) Johann Heinrich von Thünen-Institut (Hrsg.)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5280" y="206352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Hochwasserschäden sind abhängig von …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der Flächennutzun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den Anbaukulture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der Jahresze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der Dauer der Überflutun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den Folgeschäden durch Bodenerosion &amp; Bodenverunreinigung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33"/>
                </a:solidFill>
                <a:latin typeface="Arial"/>
              </a:rPr>
              <a:t>Schadenshöhe (</a:t>
            </a:r>
            <a:r>
              <a:rPr b="1" lang="de-DE" sz="2200" spc="-1" strike="noStrike">
                <a:solidFill>
                  <a:srgbClr val="333333"/>
                </a:solidFill>
                <a:latin typeface="Arial"/>
                <a:ea typeface="Arial"/>
              </a:rPr>
              <a:t>Ø) bei Hochwass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  <a:ea typeface="Arial"/>
              </a:rPr>
              <a:t>Ackerland: ca. 1.000 €/h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  <a:ea typeface="Arial"/>
              </a:rPr>
              <a:t>Grünland: ca. 500 €/h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  <a:ea typeface="Arial"/>
              </a:rPr>
              <a:t>Gartenland: ca. 1.800 €/h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66546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adensbeträge durch Überflutung in €/ha der landwirtschaftlichen Flächen Ackerland, Grünland und Gartenland (zugehörig zu den Sonderkultu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feld 1"/>
          <p:cNvSpPr/>
          <p:nvPr/>
        </p:nvSpPr>
        <p:spPr>
          <a:xfrm>
            <a:off x="6948360" y="5877000"/>
            <a:ext cx="1944720" cy="55080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Thünen Report 30 (2015) Johann Heinrich von Thünen-Institut (Hrsg.)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rcRect l="6976" t="28392" r="57749" b="10345"/>
          <a:stretch/>
        </p:blipFill>
        <p:spPr>
          <a:xfrm>
            <a:off x="826920" y="1946160"/>
            <a:ext cx="6121440" cy="44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66546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lächen in den bei Hochwassern der Kategorie HQ-20, HQ-100 und HQ-200 gefährdeten Gebieten (in Tsd. H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feld 1"/>
          <p:cNvSpPr/>
          <p:nvPr/>
        </p:nvSpPr>
        <p:spPr>
          <a:xfrm>
            <a:off x="6948360" y="5877000"/>
            <a:ext cx="1944720" cy="55080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Thünen Report 30 (2015) Johann Heinrich von Thünen-Institut (Hrsg.)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rcRect l="5644" t="29225" r="57102" b="29386"/>
          <a:stretch/>
        </p:blipFill>
        <p:spPr>
          <a:xfrm>
            <a:off x="539640" y="1989000"/>
            <a:ext cx="8137800" cy="38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6654600" cy="11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rstellung der landwirtschaftlichen Flächen Ackerland, Grünland und Sonderkulturen, die laut der Überflutungsfläche eines HQ-20, HQ-100 oder HQ-200 von Überflutung betroffen si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feld 1"/>
          <p:cNvSpPr/>
          <p:nvPr/>
        </p:nvSpPr>
        <p:spPr>
          <a:xfrm>
            <a:off x="6948360" y="5877000"/>
            <a:ext cx="1944720" cy="55080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Thünen Report 30 (2015) Johann Heinrich von Thünen-Institut (Hrsg.)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rcRect l="6109" t="33088" r="58035" b="17519"/>
          <a:stretch/>
        </p:blipFill>
        <p:spPr>
          <a:xfrm>
            <a:off x="1042920" y="2216160"/>
            <a:ext cx="6300720" cy="3660840"/>
          </a:xfrm>
          <a:prstGeom prst="rect">
            <a:avLst/>
          </a:prstGeom>
          <a:ln w="0">
            <a:noFill/>
          </a:ln>
        </p:spPr>
      </p:pic>
      <p:sp>
        <p:nvSpPr>
          <p:cNvPr id="103" name="Ellipse 3"/>
          <p:cNvSpPr/>
          <p:nvPr/>
        </p:nvSpPr>
        <p:spPr>
          <a:xfrm>
            <a:off x="4211640" y="4581360"/>
            <a:ext cx="504720" cy="863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ochwassermanagement landwirtschaftlicher Fläch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feld 1"/>
          <p:cNvSpPr/>
          <p:nvPr/>
        </p:nvSpPr>
        <p:spPr>
          <a:xfrm>
            <a:off x="6948360" y="5877000"/>
            <a:ext cx="1944720" cy="55080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Thünen Report 30 (2015) Johann Heinrich von Thünen-Institut (Hrsg.)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95280" y="206352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Überschwemmungen können für Böden auch eine hervorragende Basen- &amp; Nährstoffversorgung bedeuten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Maßnahmen ergreifen, die Bodenerosion reduzieren damit der Boden in der Lage ist, mehr Regenwasser aufzunehmen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z. B. konservierende Bodenbearbeitung mit Direktsaat oder Streifenbearbeitung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Zeitraum ohne eine Bodenbedeckung minimieren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Umwandlung von Acker- in Grünland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ochwassermanagement landwirtschaftlicher Fläch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feld 1"/>
          <p:cNvSpPr/>
          <p:nvPr/>
        </p:nvSpPr>
        <p:spPr>
          <a:xfrm>
            <a:off x="6948360" y="5877000"/>
            <a:ext cx="1944720" cy="55080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Thünen Report 30 (2015) Johann Heinrich von Thünen-Institut (Hrsg.)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5280" y="206352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ist die landwirtschaftliche Fläche bereits von Hochwasser betroffen, kann der Anbau von Zwischenfrüchten helfen, das Wasser aus dem Boden zu ziehen und die Wurzel lockern den Boden wieder auf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pro 10 cm Pflanzenwachstum können 10 mm Wasser aus dem Boden aufgenommen werden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07:10:19Z</dcterms:created>
  <dc:creator>Müller, Tino - LfULG</dc:creator>
  <dc:description/>
  <dc:language>en-US</dc:language>
  <cp:lastModifiedBy>Barbara</cp:lastModifiedBy>
  <dcterms:modified xsi:type="dcterms:W3CDTF">2018-12-31T13:04:10Z</dcterms:modified>
  <cp:revision>98</cp:revision>
  <dc:subject/>
  <dc:title>Ohne Zweitlogo: Titel der Präsentation Arial 26</dc:title>
</cp:coreProperties>
</file>